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833292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3840" y="3034080"/>
            <a:ext cx="833292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3840" y="3034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53800" y="3034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01560" y="1252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18920" y="1252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83840" y="3034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01560" y="3034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18920" y="3034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83840" y="1252080"/>
            <a:ext cx="8332920" cy="34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833292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82160" y="622080"/>
            <a:ext cx="896148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3840" y="3034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83840" y="1252080"/>
            <a:ext cx="8332920" cy="34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753800" y="3034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3840" y="3034080"/>
            <a:ext cx="833292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833292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3840" y="3034080"/>
            <a:ext cx="833292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840" y="3034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753800" y="3034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01560" y="1252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18920" y="1252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83840" y="3034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01560" y="3034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18920" y="3034080"/>
            <a:ext cx="268308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833292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82160" y="622080"/>
            <a:ext cx="896148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3840" y="3034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53800" y="3034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84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3800" y="1252080"/>
            <a:ext cx="406620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840" y="3034080"/>
            <a:ext cx="8332920" cy="16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2520"/>
            <a:ext cx="9137520" cy="555480"/>
          </a:xfrm>
          <a:prstGeom prst="rect">
            <a:avLst/>
          </a:prstGeom>
          <a:solidFill>
            <a:srgbClr val="0099cc"/>
          </a:solidFill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9120"/>
            <a:ext cx="8028000" cy="431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160" y="6220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83840" y="1252080"/>
            <a:ext cx="8332920" cy="3411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41480" indent="-23040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1520" indent="-22860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1520" indent="-22860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1520" indent="-22860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35680" y="90360"/>
            <a:ext cx="34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   Rational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46120" y="174600"/>
            <a:ext cx="0" cy="27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3260880" y="174600"/>
            <a:ext cx="0" cy="13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15200"/>
            <a:ext cx="8013600" cy="387360"/>
          </a:xfrm>
          <a:prstGeom prst="rect">
            <a:avLst/>
          </a:prstGeom>
          <a:solidFill>
            <a:srgbClr val="0099cc"/>
          </a:solidFill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8520" y="81000"/>
            <a:ext cx="7548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tional User Conference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>
            <a:lum bright="6000"/>
          </a:blip>
          <a:srcRect l="1882" t="0" r="0" b="0"/>
          <a:stretch/>
        </p:blipFill>
        <p:spPr>
          <a:xfrm>
            <a:off x="0" y="6418440"/>
            <a:ext cx="5208480" cy="3888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4">
            <a:lum bright="6000"/>
          </a:blip>
          <a:srcRect l="8876" t="0" r="38422" b="0"/>
          <a:stretch/>
        </p:blipFill>
        <p:spPr>
          <a:xfrm>
            <a:off x="5208480" y="6418440"/>
            <a:ext cx="27972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4" name=""/>
          <p:cNvGrpSpPr/>
          <p:nvPr/>
        </p:nvGrpSpPr>
        <p:grpSpPr>
          <a:xfrm>
            <a:off x="8232840" y="6465960"/>
            <a:ext cx="720720" cy="315360"/>
            <a:chOff x="8232840" y="6465960"/>
            <a:chExt cx="720720" cy="315360"/>
          </a:xfrm>
        </p:grpSpPr>
        <p:pic>
          <p:nvPicPr>
            <p:cNvPr id="15" name="" descr=""/>
            <p:cNvPicPr/>
            <p:nvPr/>
          </p:nvPicPr>
          <p:blipFill>
            <a:blip r:embed="rId5"/>
            <a:srcRect l="0" t="0" r="3439" b="0"/>
            <a:stretch/>
          </p:blipFill>
          <p:spPr>
            <a:xfrm>
              <a:off x="8232840" y="6465960"/>
              <a:ext cx="64260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"/>
            <p:cNvSpPr/>
            <p:nvPr/>
          </p:nvSpPr>
          <p:spPr>
            <a:xfrm>
              <a:off x="8820000" y="6684840"/>
              <a:ext cx="13356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823000"/>
            <a:ext cx="9144000" cy="1035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035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5520" y="3327120"/>
            <a:ext cx="829296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4080" y="1349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823000"/>
            <a:ext cx="9137520" cy="482400"/>
          </a:xfrm>
          <a:prstGeom prst="rect">
            <a:avLst/>
          </a:prstGeom>
          <a:solidFill>
            <a:srgbClr val="0099cc"/>
          </a:solidFill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>
            <a:lum bright="6000"/>
          </a:blip>
          <a:srcRect l="1882" t="0" r="0" b="0"/>
          <a:stretch/>
        </p:blipFill>
        <p:spPr>
          <a:xfrm>
            <a:off x="0" y="5886360"/>
            <a:ext cx="5208480" cy="389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>
            <a:lum bright="6000"/>
          </a:blip>
          <a:srcRect l="8876" t="0" r="17097" b="0"/>
          <a:stretch/>
        </p:blipFill>
        <p:spPr>
          <a:xfrm>
            <a:off x="5208480" y="5886360"/>
            <a:ext cx="3929040" cy="3891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128520" y="474840"/>
            <a:ext cx="7548480" cy="306360"/>
            <a:chOff x="128520" y="474840"/>
            <a:chExt cx="7548480" cy="306360"/>
          </a:xfrm>
        </p:grpSpPr>
        <p:sp>
          <p:nvSpPr>
            <p:cNvPr id="64" name=""/>
            <p:cNvSpPr/>
            <p:nvPr/>
          </p:nvSpPr>
          <p:spPr>
            <a:xfrm>
              <a:off x="128520" y="474840"/>
              <a:ext cx="7548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marL="343080" indent="-343080">
                <a:lnSpc>
                  <a:spcPct val="98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BM Software Group     Rational softw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881360" y="537840"/>
              <a:ext cx="0" cy="1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773840" y="277920"/>
            <a:ext cx="1243080" cy="574920"/>
            <a:chOff x="7773840" y="277920"/>
            <a:chExt cx="1243080" cy="574920"/>
          </a:xfrm>
        </p:grpSpPr>
        <p:sp>
          <p:nvSpPr>
            <p:cNvPr id="67" name=""/>
            <p:cNvSpPr/>
            <p:nvPr/>
          </p:nvSpPr>
          <p:spPr>
            <a:xfrm>
              <a:off x="8786880" y="57600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86880" y="57600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rcRect l="0" t="0" r="3439" b="0"/>
            <a:stretch/>
          </p:blipFill>
          <p:spPr>
            <a:xfrm>
              <a:off x="7773840" y="277920"/>
              <a:ext cx="1065240" cy="41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22400" y="5418000"/>
            <a:ext cx="1653840" cy="306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ftr" idx="1"/>
          </p:nvPr>
        </p:nvSpPr>
        <p:spPr>
          <a:xfrm>
            <a:off x="4773240" y="6451560"/>
            <a:ext cx="431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MA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595600" y="1452600"/>
            <a:ext cx="3952800" cy="1644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457200" indent="-109440" algn="ctr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33360" algn="ctr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560520" algn="ctr">
              <a:lnSpc>
                <a:spcPct val="85000"/>
              </a:lnSpc>
              <a:buClr>
                <a:srgbClr val="ff99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785880" algn="ctr">
              <a:lnSpc>
                <a:spcPct val="85000"/>
              </a:lnSpc>
              <a:buClr>
                <a:srgbClr val="ff9900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785880">
              <a:spcBef>
                <a:spcPts val="49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785880">
              <a:spcBef>
                <a:spcPts val="49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cme.bradapp.net/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acme.bradapp.net/branching" TargetMode="External"/><Relationship Id="rId2" Type="http://schemas.openxmlformats.org/officeDocument/2006/relationships/hyperlink" Target="http://www.perforce.com/perforce/bestpractices.html" TargetMode="External"/><Relationship Id="rId3" Type="http://schemas.openxmlformats.org/officeDocument/2006/relationships/hyperlink" Target="http://www.vance.com/steve/perforce/Branching_Strategies.html" TargetMode="External"/><Relationship Id="rId4" Type="http://schemas.openxmlformats.org/officeDocument/2006/relationships/hyperlink" Target="http://cs.boisestate.edu/~buff/publications/scm9/abstract.html" TargetMode="External"/><Relationship Id="rId5" Type="http://schemas.openxmlformats.org/officeDocument/2006/relationships/hyperlink" Target="http://cs.boisestate.edu/~buff/publications/scm9/abstract.html" TargetMode="External"/><Relationship Id="rId6" Type="http://schemas.openxmlformats.org/officeDocument/2006/relationships/hyperlink" Target="http://cs.boisestate.edu/~buff/publications/scm9/abstract.html" TargetMode="External"/><Relationship Id="rId7" Type="http://schemas.openxmlformats.org/officeDocument/2006/relationships/hyperlink" Target="http://www.daven.com/IEEEComputerArticle.pdf" TargetMode="External"/><Relationship Id="rId8" Type="http://schemas.openxmlformats.org/officeDocument/2006/relationships/hyperlink" Target="http://www.weintraubworld.net/clearcase/cc.branch.html" TargetMode="External"/><Relationship Id="rId9" Type="http://schemas.openxmlformats.org/officeDocument/2006/relationships/hyperlink" Target="http://www.weintraubworld.net/clearcase/cc.branch.html" TargetMode="External"/><Relationship Id="rId10" Type="http://schemas.openxmlformats.org/officeDocument/2006/relationships/hyperlink" Target="http://www.weintraubworld.net/clearcase/cc.branch.html" TargetMode="External"/><Relationship Id="rId11" Type="http://schemas.openxmlformats.org/officeDocument/2006/relationships/hyperlink" Target="http://www.snuffybear.com/ucm_branch.htm" TargetMode="External"/><Relationship Id="rId12" Type="http://schemas.openxmlformats.org/officeDocument/2006/relationships/hyperlink" Target="http://www.scmpatterns.com/book/" TargetMode="External"/><Relationship Id="rId13" Type="http://schemas.openxmlformats.org/officeDocument/2006/relationships/hyperlink" Target="http://www.scmpatterns.com/book/" TargetMode="External"/><Relationship Id="rId1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3106440"/>
            <a:ext cx="829296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The Right Branching Solution: Techniques, Strategies And Trade-o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25520" y="3960720"/>
            <a:ext cx="829296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99cc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Arial"/>
              </a:rPr>
              <a:t>Brad Appleton</a:t>
            </a:r>
            <a:endParaRPr b="0" i="1" lang="en-US" sz="2000" spc="-1" strike="noStrike">
              <a:solidFill>
                <a:srgbClr val="0099cc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Arial"/>
              </a:rPr>
              <a:t>Darryl A. Hahn</a:t>
            </a:r>
            <a:endParaRPr b="0" i="1" lang="en-US" sz="2000" spc="-1" strike="noStrike">
              <a:solidFill>
                <a:srgbClr val="0099cc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Arial"/>
              </a:rPr>
              <a:t>Motorola</a:t>
            </a:r>
            <a:endParaRPr b="0" i="1" lang="en-US" sz="2000" spc="-1" strike="noStrike">
              <a:solidFill>
                <a:srgbClr val="0099cc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d.Appleton@motorola.com</a:t>
            </a:r>
            <a:endParaRPr b="0" i="1" lang="en-US" sz="1800" spc="-1" strike="noStrike">
              <a:solidFill>
                <a:srgbClr val="0099cc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.Hahn@motorola.com</a:t>
            </a:r>
            <a:endParaRPr b="0" i="1" lang="en-US" sz="1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75160" y="923760"/>
            <a:ext cx="3519720" cy="5254920"/>
          </a:xfrm>
          <a:prstGeom prst="rect">
            <a:avLst/>
          </a:prstGeom>
          <a:noFill/>
          <a:ln cap="rnd" w="57240">
            <a:solidFill>
              <a:srgbClr val="ff6699"/>
            </a:solidFill>
            <a:custDash>
              <a:ds d="100000" sp="1000"/>
            </a:custDash>
            <a:miter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0120" y="934920"/>
            <a:ext cx="4309920" cy="5238720"/>
          </a:xfrm>
          <a:prstGeom prst="rect">
            <a:avLst/>
          </a:prstGeom>
          <a:noFill/>
          <a:ln cap="rnd" w="57240">
            <a:solidFill>
              <a:srgbClr val="ff6699"/>
            </a:solidFill>
            <a:custDash>
              <a:ds d="100000" sp="1000"/>
            </a:custDash>
            <a:miter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160" y="4154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arly Branching vs. Lazy Branching 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20960" y="979560"/>
            <a:ext cx="109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a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720" y="928800"/>
            <a:ext cx="1027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52760" y="1611360"/>
            <a:ext cx="958680" cy="514440"/>
            <a:chOff x="1652760" y="1611360"/>
            <a:chExt cx="958680" cy="514440"/>
          </a:xfrm>
        </p:grpSpPr>
        <p:grpSp>
          <p:nvGrpSpPr>
            <p:cNvPr id="156" name=""/>
            <p:cNvGrpSpPr/>
            <p:nvPr/>
          </p:nvGrpSpPr>
          <p:grpSpPr>
            <a:xfrm>
              <a:off x="1851120" y="1611360"/>
              <a:ext cx="760320" cy="514440"/>
              <a:chOff x="1851120" y="1611360"/>
              <a:chExt cx="760320" cy="514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851120" y="1611360"/>
                <a:ext cx="760320" cy="51444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35760" y="1804320"/>
                <a:ext cx="117000" cy="128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652760" y="163980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33440" y="1012680"/>
            <a:ext cx="1295640" cy="4755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Ma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90640" y="173520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1" idx="0"/>
            <a:endCxn id="160" idx="2"/>
          </p:cNvCxnSpPr>
          <p:nvPr/>
        </p:nvCxnSpPr>
        <p:spPr>
          <a:xfrm flipV="1">
            <a:off x="2881080" y="1545840"/>
            <a:ext cx="1080" cy="17064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grpSp>
        <p:nvGrpSpPr>
          <p:cNvPr id="163" name=""/>
          <p:cNvGrpSpPr/>
          <p:nvPr/>
        </p:nvGrpSpPr>
        <p:grpSpPr>
          <a:xfrm>
            <a:off x="5402160" y="2019240"/>
            <a:ext cx="958680" cy="514440"/>
            <a:chOff x="5402160" y="2019240"/>
            <a:chExt cx="958680" cy="514440"/>
          </a:xfrm>
        </p:grpSpPr>
        <p:grpSp>
          <p:nvGrpSpPr>
            <p:cNvPr id="164" name=""/>
            <p:cNvGrpSpPr/>
            <p:nvPr/>
          </p:nvGrpSpPr>
          <p:grpSpPr>
            <a:xfrm>
              <a:off x="5600520" y="2019240"/>
              <a:ext cx="760320" cy="514440"/>
              <a:chOff x="5600520" y="2019240"/>
              <a:chExt cx="760320" cy="514440"/>
            </a:xfrm>
          </p:grpSpPr>
          <p:sp>
            <p:nvSpPr>
              <p:cNvPr id="165" name=""/>
              <p:cNvSpPr/>
              <p:nvPr/>
            </p:nvSpPr>
            <p:spPr>
              <a:xfrm>
                <a:off x="5600520" y="2019240"/>
                <a:ext cx="760320" cy="51444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85160" y="2212200"/>
                <a:ext cx="117000" cy="128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402160" y="204768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815080" y="1046160"/>
            <a:ext cx="1600200" cy="76788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Latest &amp; Grea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24560" y="206532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9" idx="0"/>
            <a:endCxn id="168" idx="2"/>
          </p:cNvCxnSpPr>
          <p:nvPr/>
        </p:nvCxnSpPr>
        <p:spPr>
          <a:xfrm flipV="1">
            <a:off x="6614640" y="1870920"/>
            <a:ext cx="1080" cy="1753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146240" y="562932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1" idx="0"/>
            <a:endCxn id="173" idx="4"/>
          </p:cNvCxnSpPr>
          <p:nvPr/>
        </p:nvCxnSpPr>
        <p:spPr>
          <a:xfrm flipV="1">
            <a:off x="1336320" y="5438520"/>
            <a:ext cx="1080" cy="17208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424560" y="569448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4" idx="0"/>
            <a:endCxn id="176" idx="4"/>
          </p:cNvCxnSpPr>
          <p:nvPr/>
        </p:nvCxnSpPr>
        <p:spPr>
          <a:xfrm flipV="1">
            <a:off x="6614640" y="5365440"/>
            <a:ext cx="1080" cy="3103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3621240" y="1692360"/>
            <a:ext cx="1122120" cy="67068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R1.1 dev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61" idx="6"/>
            <a:endCxn id="177" idx="1"/>
          </p:cNvCxnSpPr>
          <p:nvPr/>
        </p:nvCxnSpPr>
        <p:spPr>
          <a:xfrm>
            <a:off x="3090960" y="1925280"/>
            <a:ext cx="511920" cy="108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776160" y="2616120"/>
            <a:ext cx="112104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R2.0-d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9" idx="0"/>
            <a:endCxn id="161" idx="3"/>
          </p:cNvCxnSpPr>
          <p:nvPr/>
        </p:nvCxnSpPr>
        <p:spPr>
          <a:xfrm flipV="1">
            <a:off x="1336680" y="2079000"/>
            <a:ext cx="1410480" cy="51804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7183440" y="2022480"/>
            <a:ext cx="112068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R1 ma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69" idx="6"/>
            <a:endCxn id="181" idx="1"/>
          </p:cNvCxnSpPr>
          <p:nvPr/>
        </p:nvCxnSpPr>
        <p:spPr>
          <a:xfrm>
            <a:off x="6824520" y="2255400"/>
            <a:ext cx="340200" cy="108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48000" y="4029120"/>
            <a:ext cx="112068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R1.2-d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3" idx="0"/>
            <a:endCxn id="185" idx="5"/>
          </p:cNvCxnSpPr>
          <p:nvPr/>
        </p:nvCxnSpPr>
        <p:spPr>
          <a:xfrm flipH="1" flipV="1">
            <a:off x="3015360" y="3590640"/>
            <a:ext cx="893160" cy="41976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6424560" y="281304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6" idx="0"/>
            <a:endCxn id="169" idx="4"/>
          </p:cNvCxnSpPr>
          <p:nvPr/>
        </p:nvCxnSpPr>
        <p:spPr>
          <a:xfrm flipV="1">
            <a:off x="6614640" y="2464920"/>
            <a:ext cx="1080" cy="32904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7553160" y="279396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8" idx="0"/>
            <a:endCxn id="181" idx="2"/>
          </p:cNvCxnSpPr>
          <p:nvPr/>
        </p:nvCxnSpPr>
        <p:spPr>
          <a:xfrm flipV="1">
            <a:off x="7743600" y="2507760"/>
            <a:ext cx="1080" cy="2671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7553160" y="355140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90" idx="0"/>
            <a:endCxn id="188" idx="4"/>
          </p:cNvCxnSpPr>
          <p:nvPr/>
        </p:nvCxnSpPr>
        <p:spPr>
          <a:xfrm flipV="1">
            <a:off x="7743600" y="3193560"/>
            <a:ext cx="1080" cy="3391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3992400" y="245736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0"/>
            <a:endCxn id="177" idx="2"/>
          </p:cNvCxnSpPr>
          <p:nvPr/>
        </p:nvCxnSpPr>
        <p:spPr>
          <a:xfrm flipV="1">
            <a:off x="4182840" y="2177280"/>
            <a:ext cx="1080" cy="26100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992400" y="325296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0"/>
            <a:endCxn id="192" idx="4"/>
          </p:cNvCxnSpPr>
          <p:nvPr/>
        </p:nvCxnSpPr>
        <p:spPr>
          <a:xfrm flipV="1">
            <a:off x="4182840" y="2856960"/>
            <a:ext cx="1080" cy="3769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196" name=""/>
          <p:cNvCxnSpPr>
            <a:stCxn id="197" idx="0"/>
            <a:endCxn id="179" idx="2"/>
          </p:cNvCxnSpPr>
          <p:nvPr/>
        </p:nvCxnSpPr>
        <p:spPr>
          <a:xfrm flipV="1">
            <a:off x="1336320" y="3101400"/>
            <a:ext cx="1080" cy="1465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1146240" y="326700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5" idx="3"/>
            <a:endCxn id="199" idx="6"/>
          </p:cNvCxnSpPr>
          <p:nvPr/>
        </p:nvCxnSpPr>
        <p:spPr>
          <a:xfrm rot="5400000">
            <a:off x="1917000" y="3219480"/>
            <a:ext cx="457920" cy="1200960"/>
          </a:xfrm>
          <a:prstGeom prst="curvedConnector2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1146240" y="385776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9" idx="0"/>
            <a:endCxn id="197" idx="4"/>
          </p:cNvCxnSpPr>
          <p:nvPr/>
        </p:nvCxnSpPr>
        <p:spPr>
          <a:xfrm flipV="1">
            <a:off x="1336320" y="3666240"/>
            <a:ext cx="1080" cy="17244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6424560" y="424980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201" idx="0"/>
            <a:endCxn id="203" idx="4"/>
          </p:cNvCxnSpPr>
          <p:nvPr/>
        </p:nvCxnSpPr>
        <p:spPr>
          <a:xfrm flipV="1">
            <a:off x="6614640" y="3933000"/>
            <a:ext cx="1080" cy="2977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7553160" y="494496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4" idx="0"/>
            <a:endCxn id="190" idx="4"/>
          </p:cNvCxnSpPr>
          <p:nvPr/>
        </p:nvCxnSpPr>
        <p:spPr>
          <a:xfrm flipV="1">
            <a:off x="7743600" y="3950640"/>
            <a:ext cx="1080" cy="97524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718080" y="483696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0"/>
            <a:endCxn id="183" idx="2"/>
          </p:cNvCxnSpPr>
          <p:nvPr/>
        </p:nvCxnSpPr>
        <p:spPr>
          <a:xfrm flipV="1">
            <a:off x="3908160" y="4514040"/>
            <a:ext cx="1080" cy="30420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208" name=""/>
          <p:cNvCxnSpPr>
            <a:stCxn id="209" idx="0"/>
            <a:endCxn id="199" idx="4"/>
          </p:cNvCxnSpPr>
          <p:nvPr/>
        </p:nvCxnSpPr>
        <p:spPr>
          <a:xfrm flipV="1">
            <a:off x="1336320" y="4257000"/>
            <a:ext cx="1080" cy="18180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1146240" y="445788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rot="5400000">
            <a:off x="2010240" y="4647240"/>
            <a:ext cx="192600" cy="1280160"/>
          </a:xfrm>
          <a:prstGeom prst="curvedConnector5">
            <a:avLst>
              <a:gd name="adj1" fmla="val 238014"/>
              <a:gd name="adj2" fmla="val 49985"/>
              <a:gd name="adj3" fmla="val 238014"/>
            </a:avLst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1146240" y="503856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3" idx="0"/>
            <a:endCxn id="209" idx="4"/>
          </p:cNvCxnSpPr>
          <p:nvPr/>
        </p:nvCxnSpPr>
        <p:spPr>
          <a:xfrm flipV="1">
            <a:off x="1336320" y="4857480"/>
            <a:ext cx="1080" cy="1627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grpSp>
        <p:nvGrpSpPr>
          <p:cNvPr id="212" name=""/>
          <p:cNvGrpSpPr/>
          <p:nvPr/>
        </p:nvGrpSpPr>
        <p:grpSpPr>
          <a:xfrm>
            <a:off x="8007480" y="3497400"/>
            <a:ext cx="869760" cy="514080"/>
            <a:chOff x="8007480" y="3497400"/>
            <a:chExt cx="869760" cy="514080"/>
          </a:xfrm>
        </p:grpSpPr>
        <p:grpSp>
          <p:nvGrpSpPr>
            <p:cNvPr id="213" name=""/>
            <p:cNvGrpSpPr/>
            <p:nvPr/>
          </p:nvGrpSpPr>
          <p:grpSpPr>
            <a:xfrm>
              <a:off x="8007480" y="3497400"/>
              <a:ext cx="760320" cy="514080"/>
              <a:chOff x="8007480" y="3497400"/>
              <a:chExt cx="760320" cy="5140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8007480" y="349740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8066160" y="3691080"/>
                <a:ext cx="117360" cy="128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H="1">
              <a:off x="8062920" y="352584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424560" y="353376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03" idx="0"/>
            <a:endCxn id="186" idx="4"/>
          </p:cNvCxnSpPr>
          <p:nvPr/>
        </p:nvCxnSpPr>
        <p:spPr>
          <a:xfrm flipV="1">
            <a:off x="6614640" y="3212640"/>
            <a:ext cx="1080" cy="30240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218" name=""/>
          <p:cNvCxnSpPr>
            <a:stCxn id="190" idx="2"/>
            <a:endCxn id="203" idx="6"/>
          </p:cNvCxnSpPr>
          <p:nvPr/>
        </p:nvCxnSpPr>
        <p:spPr>
          <a:xfrm flipH="1" flipV="1">
            <a:off x="6824520" y="3723480"/>
            <a:ext cx="710280" cy="18360"/>
          </a:xfrm>
          <a:prstGeom prst="straightConnector1">
            <a:avLst/>
          </a:prstGeom>
          <a:ln w="381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690640" y="324648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185" idx="0"/>
            <a:endCxn id="161" idx="4"/>
          </p:cNvCxnSpPr>
          <p:nvPr/>
        </p:nvCxnSpPr>
        <p:spPr>
          <a:xfrm flipV="1">
            <a:off x="2881080" y="2134800"/>
            <a:ext cx="1080" cy="109296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220" name=""/>
          <p:cNvCxnSpPr>
            <a:stCxn id="194" idx="2"/>
            <a:endCxn id="185" idx="6"/>
          </p:cNvCxnSpPr>
          <p:nvPr/>
        </p:nvCxnSpPr>
        <p:spPr>
          <a:xfrm flipH="1" flipV="1">
            <a:off x="3090600" y="3436560"/>
            <a:ext cx="883440" cy="7200"/>
          </a:xfrm>
          <a:prstGeom prst="straightConnector1">
            <a:avLst/>
          </a:prstGeom>
          <a:ln w="38160">
            <a:solidFill>
              <a:srgbClr val="ff6600"/>
            </a:solidFill>
            <a:prstDash val="dash"/>
            <a:miter/>
            <a:tailEnd len="med" type="triangle" w="med"/>
          </a:ln>
        </p:spPr>
      </p:cxnSp>
      <p:grpSp>
        <p:nvGrpSpPr>
          <p:cNvPr id="221" name=""/>
          <p:cNvGrpSpPr/>
          <p:nvPr/>
        </p:nvGrpSpPr>
        <p:grpSpPr>
          <a:xfrm>
            <a:off x="1690560" y="3116160"/>
            <a:ext cx="959040" cy="514440"/>
            <a:chOff x="1690560" y="3116160"/>
            <a:chExt cx="959040" cy="514440"/>
          </a:xfrm>
        </p:grpSpPr>
        <p:grpSp>
          <p:nvGrpSpPr>
            <p:cNvPr id="222" name=""/>
            <p:cNvGrpSpPr/>
            <p:nvPr/>
          </p:nvGrpSpPr>
          <p:grpSpPr>
            <a:xfrm>
              <a:off x="1889280" y="3116160"/>
              <a:ext cx="760320" cy="514440"/>
              <a:chOff x="1889280" y="3116160"/>
              <a:chExt cx="760320" cy="514440"/>
            </a:xfrm>
          </p:grpSpPr>
          <p:sp>
            <p:nvSpPr>
              <p:cNvPr id="223" name=""/>
              <p:cNvSpPr/>
              <p:nvPr/>
            </p:nvSpPr>
            <p:spPr>
              <a:xfrm>
                <a:off x="1889280" y="3116160"/>
                <a:ext cx="760320" cy="51444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73920" y="3309120"/>
                <a:ext cx="117000" cy="128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690560" y="3144960"/>
              <a:ext cx="814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942320" y="4884840"/>
            <a:ext cx="857160" cy="514080"/>
            <a:chOff x="7942320" y="4884840"/>
            <a:chExt cx="857160" cy="514080"/>
          </a:xfrm>
        </p:grpSpPr>
        <p:grpSp>
          <p:nvGrpSpPr>
            <p:cNvPr id="227" name=""/>
            <p:cNvGrpSpPr/>
            <p:nvPr/>
          </p:nvGrpSpPr>
          <p:grpSpPr>
            <a:xfrm>
              <a:off x="8039160" y="4884840"/>
              <a:ext cx="760320" cy="514080"/>
              <a:chOff x="8039160" y="4884840"/>
              <a:chExt cx="760320" cy="5140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8039160" y="488484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097840" y="5078520"/>
                <a:ext cx="117360" cy="128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H="1">
              <a:off x="7942320" y="491328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424560" y="496584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176" idx="0"/>
            <a:endCxn id="201" idx="4"/>
          </p:cNvCxnSpPr>
          <p:nvPr/>
        </p:nvCxnSpPr>
        <p:spPr>
          <a:xfrm flipV="1">
            <a:off x="6614640" y="4649040"/>
            <a:ext cx="1080" cy="2977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232" name=""/>
          <p:cNvCxnSpPr>
            <a:stCxn id="204" idx="2"/>
            <a:endCxn id="176" idx="6"/>
          </p:cNvCxnSpPr>
          <p:nvPr/>
        </p:nvCxnSpPr>
        <p:spPr>
          <a:xfrm flipH="1">
            <a:off x="6824520" y="5135400"/>
            <a:ext cx="710280" cy="21600"/>
          </a:xfrm>
          <a:prstGeom prst="straightConnector1">
            <a:avLst/>
          </a:prstGeom>
          <a:ln w="38160">
            <a:solidFill>
              <a:srgbClr val="ff6600"/>
            </a:solidFill>
            <a:prstDash val="dash"/>
            <a:miter/>
            <a:tailEnd len="med" type="triangle" w="med"/>
          </a:ln>
        </p:spPr>
      </p:cxnSp>
      <p:grpSp>
        <p:nvGrpSpPr>
          <p:cNvPr id="233" name=""/>
          <p:cNvGrpSpPr/>
          <p:nvPr/>
        </p:nvGrpSpPr>
        <p:grpSpPr>
          <a:xfrm>
            <a:off x="2690640" y="3645720"/>
            <a:ext cx="381240" cy="1581840"/>
            <a:chOff x="2690640" y="3645720"/>
            <a:chExt cx="381240" cy="1581840"/>
          </a:xfrm>
        </p:grpSpPr>
        <p:sp>
          <p:nvSpPr>
            <p:cNvPr id="234" name=""/>
            <p:cNvSpPr/>
            <p:nvPr/>
          </p:nvSpPr>
          <p:spPr>
            <a:xfrm>
              <a:off x="2690640" y="4846680"/>
              <a:ext cx="38124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5" name=""/>
            <p:cNvCxnSpPr>
              <a:stCxn id="234" idx="0"/>
              <a:endCxn id="185" idx="4"/>
            </p:cNvCxnSpPr>
            <p:nvPr/>
          </p:nvCxnSpPr>
          <p:spPr>
            <a:xfrm flipV="1">
              <a:off x="2881080" y="3645720"/>
              <a:ext cx="1080" cy="1181880"/>
            </a:xfrm>
            <a:prstGeom prst="straightConnector1">
              <a:avLst/>
            </a:prstGeom>
            <a:ln w="38160">
              <a:solidFill>
                <a:srgbClr val="736d94"/>
              </a:solidFill>
              <a:miter/>
            </a:ln>
          </p:spPr>
        </p:cxnSp>
      </p:grpSp>
      <p:cxnSp>
        <p:nvCxnSpPr>
          <p:cNvPr id="236" name=""/>
          <p:cNvCxnSpPr>
            <a:stCxn id="206" idx="2"/>
            <a:endCxn id="234" idx="6"/>
          </p:cNvCxnSpPr>
          <p:nvPr/>
        </p:nvCxnSpPr>
        <p:spPr>
          <a:xfrm flipH="1">
            <a:off x="3090240" y="5027760"/>
            <a:ext cx="608760" cy="10080"/>
          </a:xfrm>
          <a:prstGeom prst="straightConnector1">
            <a:avLst/>
          </a:prstGeom>
          <a:ln w="38160">
            <a:solidFill>
              <a:srgbClr val="ff6600"/>
            </a:solidFill>
            <a:prstDash val="dash"/>
            <a:miter/>
            <a:tailEnd len="med" type="triangle" w="med"/>
          </a:ln>
        </p:spPr>
      </p:cxnSp>
      <p:grpSp>
        <p:nvGrpSpPr>
          <p:cNvPr id="237" name=""/>
          <p:cNvGrpSpPr/>
          <p:nvPr/>
        </p:nvGrpSpPr>
        <p:grpSpPr>
          <a:xfrm>
            <a:off x="1690560" y="4778280"/>
            <a:ext cx="959040" cy="514440"/>
            <a:chOff x="1690560" y="4778280"/>
            <a:chExt cx="959040" cy="514440"/>
          </a:xfrm>
        </p:grpSpPr>
        <p:grpSp>
          <p:nvGrpSpPr>
            <p:cNvPr id="238" name=""/>
            <p:cNvGrpSpPr/>
            <p:nvPr/>
          </p:nvGrpSpPr>
          <p:grpSpPr>
            <a:xfrm>
              <a:off x="1889280" y="4778280"/>
              <a:ext cx="760320" cy="514440"/>
              <a:chOff x="1889280" y="4778280"/>
              <a:chExt cx="760320" cy="514440"/>
            </a:xfrm>
          </p:grpSpPr>
          <p:sp>
            <p:nvSpPr>
              <p:cNvPr id="239" name=""/>
              <p:cNvSpPr/>
              <p:nvPr/>
            </p:nvSpPr>
            <p:spPr>
              <a:xfrm>
                <a:off x="1889280" y="4778280"/>
                <a:ext cx="760320" cy="51444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73920" y="4971240"/>
                <a:ext cx="117000" cy="128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690560" y="4807080"/>
              <a:ext cx="814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541520" y="5246280"/>
            <a:ext cx="4821120" cy="849600"/>
            <a:chOff x="1541520" y="5246280"/>
            <a:chExt cx="4821120" cy="849600"/>
          </a:xfrm>
        </p:grpSpPr>
        <p:grpSp>
          <p:nvGrpSpPr>
            <p:cNvPr id="243" name=""/>
            <p:cNvGrpSpPr/>
            <p:nvPr/>
          </p:nvGrpSpPr>
          <p:grpSpPr>
            <a:xfrm>
              <a:off x="5403960" y="5581800"/>
              <a:ext cx="958680" cy="514080"/>
              <a:chOff x="5403960" y="5581800"/>
              <a:chExt cx="958680" cy="514080"/>
            </a:xfrm>
          </p:grpSpPr>
          <p:sp>
            <p:nvSpPr>
              <p:cNvPr id="244" name=""/>
              <p:cNvSpPr/>
              <p:nvPr/>
            </p:nvSpPr>
            <p:spPr>
              <a:xfrm>
                <a:off x="5602320" y="558180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86600" y="5775480"/>
                <a:ext cx="117360" cy="128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03960" y="5610240"/>
                <a:ext cx="814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 Narrow"/>
                  </a:rPr>
                  <a:t>R2.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541520" y="5246280"/>
              <a:ext cx="2574720" cy="827640"/>
              <a:chOff x="1541520" y="5246280"/>
              <a:chExt cx="2574720" cy="82764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2690640" y="5246280"/>
                <a:ext cx="381240" cy="779760"/>
                <a:chOff x="2690640" y="5246280"/>
                <a:chExt cx="381240" cy="77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690640" y="5645160"/>
                  <a:ext cx="381240" cy="380880"/>
                </a:xfrm>
                <a:prstGeom prst="ellipse">
                  <a:avLst/>
                </a:prstGeom>
                <a:solidFill>
                  <a:srgbClr val="ccccff"/>
                </a:solidFill>
                <a:ln w="38160">
                  <a:solidFill>
                    <a:srgbClr val="736d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250" name=""/>
                <p:cNvCxnSpPr>
                  <a:stCxn id="249" idx="0"/>
                  <a:endCxn id="234" idx="4"/>
                </p:cNvCxnSpPr>
                <p:nvPr/>
              </p:nvCxnSpPr>
              <p:spPr>
                <a:xfrm flipV="1">
                  <a:off x="2881080" y="5246280"/>
                  <a:ext cx="1080" cy="380160"/>
                </a:xfrm>
                <a:prstGeom prst="straightConnector1">
                  <a:avLst/>
                </a:prstGeom>
                <a:ln w="38160">
                  <a:solidFill>
                    <a:srgbClr val="736d94"/>
                  </a:solidFill>
                  <a:miter/>
                </a:ln>
              </p:spPr>
            </p:cxnSp>
          </p:grpSp>
          <p:cxnSp>
            <p:nvCxnSpPr>
              <p:cNvPr id="251" name=""/>
              <p:cNvCxnSpPr>
                <a:stCxn id="171" idx="6"/>
                <a:endCxn id="249" idx="2"/>
              </p:cNvCxnSpPr>
              <p:nvPr/>
            </p:nvCxnSpPr>
            <p:spPr>
              <a:xfrm>
                <a:off x="1541520" y="5819760"/>
                <a:ext cx="1131120" cy="16560"/>
              </a:xfrm>
              <a:prstGeom prst="straightConnector1">
                <a:avLst/>
              </a:prstGeom>
              <a:ln w="38160">
                <a:solidFill>
                  <a:srgbClr val="ff6600"/>
                </a:solidFill>
                <a:prstDash val="dash"/>
                <a:miter/>
                <a:tailEnd len="med" type="triangle" w="med"/>
              </a:ln>
            </p:spPr>
          </p:cxnSp>
          <p:grpSp>
            <p:nvGrpSpPr>
              <p:cNvPr id="252" name=""/>
              <p:cNvGrpSpPr/>
              <p:nvPr/>
            </p:nvGrpSpPr>
            <p:grpSpPr>
              <a:xfrm>
                <a:off x="3157560" y="5559480"/>
                <a:ext cx="958680" cy="514440"/>
                <a:chOff x="3157560" y="5559480"/>
                <a:chExt cx="958680" cy="514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3157560" y="5559480"/>
                  <a:ext cx="760320" cy="514440"/>
                  <a:chOff x="3157560" y="5559480"/>
                  <a:chExt cx="760320" cy="5144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>
                    <a:off x="3157560" y="5559480"/>
                    <a:ext cx="76032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384">
                        <a:moveTo>
                          <a:pt x="0" y="0"/>
                        </a:moveTo>
                        <a:lnTo>
                          <a:pt x="528" y="0"/>
                        </a:lnTo>
                        <a:lnTo>
                          <a:pt x="624" y="96"/>
                        </a:lnTo>
                        <a:lnTo>
                          <a:pt x="624" y="288"/>
                        </a:lnTo>
                        <a:lnTo>
                          <a:pt x="528" y="384"/>
                        </a:lnTo>
                        <a:lnTo>
                          <a:pt x="0" y="3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>
                    <a:off x="3215880" y="5752440"/>
                    <a:ext cx="117000" cy="12852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 flipH="1">
                  <a:off x="3301920" y="5587920"/>
                  <a:ext cx="814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cc3300"/>
                      </a:solidFill>
                      <a:latin typeface="Arial Narrow"/>
                    </a:rPr>
                    <a:t>R2.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ean vs. Fat Merg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3840" y="950760"/>
            <a:ext cx="8332920" cy="423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sk-Level Commit (“Fat” Merg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 all the latest versions of a branch/task (the whole change-set) to the integration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“copy-merging” of files that didn’t have any parallel modifications between bran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involve a lot of copym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f 200 files change on a private branch, must merge all 200 files to complete the merge and start th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branch-to-branch merges are “fat” mer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ean vs. Fat Merging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 [continued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83840" y="950400"/>
            <a:ext cx="8405640" cy="5316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erred Copymerging (“Lean” Merg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ose files that had parallel changes, indicated b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me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branch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branches live longer, possibly branched from other private bran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graphical version tree to look “ug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zy” Mainlining – needed periodically to avoid long branch pathnames, typically per major/minor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s for “latest and greatest” builds must effectively span multiple private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ut of 200 files, merge only 5 files that conflict with another Private branch to start th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s-off “prettiness” for efficiency, by eliminating copymerges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merge-time and rebuil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ean vs. Fat Merg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4960" y="934920"/>
            <a:ext cx="4229280" cy="5238720"/>
          </a:xfrm>
          <a:prstGeom prst="rect">
            <a:avLst/>
          </a:prstGeom>
          <a:noFill/>
          <a:ln cap="rnd" w="57240">
            <a:solidFill>
              <a:srgbClr val="ff6699"/>
            </a:solidFill>
            <a:custDash>
              <a:ds d="100000" sp="1000"/>
            </a:custDash>
            <a:miter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95840" y="933480"/>
            <a:ext cx="4309920" cy="5238720"/>
          </a:xfrm>
          <a:prstGeom prst="rect">
            <a:avLst/>
          </a:prstGeom>
          <a:noFill/>
          <a:ln cap="rnd" w="57240">
            <a:solidFill>
              <a:srgbClr val="ff6699"/>
            </a:solidFill>
            <a:custDash>
              <a:ds d="100000" sp="1000"/>
            </a:custDash>
            <a:miter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6280" y="1019160"/>
            <a:ext cx="197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n M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29040" y="1044720"/>
            <a:ext cx="19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 M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2880" y="1496880"/>
            <a:ext cx="1782720" cy="12718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CR123_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1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2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3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Header1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73200" y="1506240"/>
            <a:ext cx="1737000" cy="12718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CR987_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3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4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5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Header1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3400" y="3387960"/>
            <a:ext cx="1948680" cy="772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Integration_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3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Header1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6" idx="2"/>
            <a:endCxn id="268" idx="0"/>
          </p:cNvCxnSpPr>
          <p:nvPr/>
        </p:nvCxnSpPr>
        <p:spPr>
          <a:xfrm flipH="1" rot="16200000">
            <a:off x="1612800" y="2619000"/>
            <a:ext cx="558000" cy="913680"/>
          </a:xfrm>
          <a:prstGeom prst="curvedConnector5">
            <a:avLst>
              <a:gd name="adj1" fmla="val 49838"/>
              <a:gd name="adj2" fmla="val 49980"/>
              <a:gd name="adj3" fmla="val 49838"/>
            </a:avLst>
          </a:prstGeom>
          <a:ln w="381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7" idx="2"/>
            <a:endCxn id="268" idx="0"/>
          </p:cNvCxnSpPr>
          <p:nvPr/>
        </p:nvCxnSpPr>
        <p:spPr>
          <a:xfrm rot="5400000">
            <a:off x="2570400" y="2583720"/>
            <a:ext cx="548640" cy="993960"/>
          </a:xfrm>
          <a:prstGeom prst="curvedConnector5">
            <a:avLst>
              <a:gd name="adj1" fmla="val 49835"/>
              <a:gd name="adj2" fmla="val 50000"/>
              <a:gd name="adj3" fmla="val 49835"/>
            </a:avLst>
          </a:prstGeom>
          <a:ln w="381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4940280" y="5191920"/>
            <a:ext cx="3909960" cy="8427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Config Spe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Element * …/integration_branch/LA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Element * LAST_REL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6720" y="4548960"/>
            <a:ext cx="3938760" cy="142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Config Spe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Element * …/integration_branch/LA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Element * …/cr123_branch/LA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Element * …/cr987_branch/LA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Element * LAST_REL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1591920"/>
            <a:ext cx="1782720" cy="12718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CR123_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1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2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3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Header1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12080" y="1601640"/>
            <a:ext cx="1736640" cy="12718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CR987_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3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4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5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Header1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96440" y="3242880"/>
            <a:ext cx="2046600" cy="17708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Integration_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1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2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3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4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File5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  <a:ea typeface="Arial"/>
              </a:rPr>
              <a:t>Header1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2"/>
            <a:endCxn id="275" idx="0"/>
          </p:cNvCxnSpPr>
          <p:nvPr/>
        </p:nvCxnSpPr>
        <p:spPr>
          <a:xfrm flipH="1" rot="16200000">
            <a:off x="6283440" y="2582640"/>
            <a:ext cx="327600" cy="946800"/>
          </a:xfrm>
          <a:prstGeom prst="curvedConnector5">
            <a:avLst>
              <a:gd name="adj1" fmla="val 49944"/>
              <a:gd name="adj2" fmla="val 49980"/>
              <a:gd name="adj3" fmla="val 49944"/>
            </a:avLst>
          </a:prstGeom>
          <a:ln w="381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4" idx="2"/>
            <a:endCxn id="275" idx="0"/>
          </p:cNvCxnSpPr>
          <p:nvPr/>
        </p:nvCxnSpPr>
        <p:spPr>
          <a:xfrm rot="5400000">
            <a:off x="7241040" y="2580480"/>
            <a:ext cx="317880" cy="96120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38160">
            <a:solidFill>
              <a:srgbClr val="b2b2b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sh” versus “Pull”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79440" y="950400"/>
            <a:ext cx="8562960" cy="542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-Push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merg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ir changes to the int-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s greater stability to achieve great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reater trust and proficiency of the develop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ore elaborate triggers/tools to validate process ad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225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or/Builder-Pul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submit completed changes to an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or merge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ev. changes to the int-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more reliable stability/integrity, but less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come dysfunctional “throw it over the wall”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ll-Push Integration-Task Bran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3840" y="960480"/>
            <a:ext cx="83329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or create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branch solely for integrating a set of development bran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merging development branches directly to the integration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90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grator then “pulls” the changes from the development branches to the integration-task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90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ome testing, the integrator “pushes” the changes on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-branch from the the integration-task bra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90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an vs. F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y merge all files from a set of development branches, or only the conflict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erge only the conflicting files, then require all branches in config spec for build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90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ne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Keeps the primary int-branch in a pristine &amp; stable state, at the cost of additional trivial branching &amp; m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160" y="44568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ll-Push Integration Task Branch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6360" y="1081080"/>
            <a:ext cx="1752480" cy="80604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1680" y="1938240"/>
            <a:ext cx="0" cy="320040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391520" y="2705040"/>
            <a:ext cx="761760" cy="819000"/>
            <a:chOff x="7391520" y="2705040"/>
            <a:chExt cx="761760" cy="819000"/>
          </a:xfrm>
        </p:grpSpPr>
        <p:sp>
          <p:nvSpPr>
            <p:cNvPr id="286" name=""/>
            <p:cNvSpPr/>
            <p:nvPr/>
          </p:nvSpPr>
          <p:spPr>
            <a:xfrm>
              <a:off x="7391520" y="3066840"/>
              <a:ext cx="761760" cy="457200"/>
            </a:xfrm>
            <a:prstGeom prst="parallelogram">
              <a:avLst>
                <a:gd name="adj" fmla="val 41654"/>
              </a:avLst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96080" y="2705040"/>
              <a:ext cx="381240" cy="304560"/>
            </a:xfrm>
            <a:prstGeom prst="ellipse">
              <a:avLst/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010280" y="3486240"/>
            <a:ext cx="144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Develo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95760" y="3333600"/>
            <a:ext cx="761760" cy="819000"/>
            <a:chOff x="5495760" y="3333600"/>
            <a:chExt cx="761760" cy="819000"/>
          </a:xfrm>
        </p:grpSpPr>
        <p:sp>
          <p:nvSpPr>
            <p:cNvPr id="290" name=""/>
            <p:cNvSpPr/>
            <p:nvPr/>
          </p:nvSpPr>
          <p:spPr>
            <a:xfrm>
              <a:off x="5495760" y="3695400"/>
              <a:ext cx="761760" cy="457200"/>
            </a:xfrm>
            <a:prstGeom prst="parallelogram">
              <a:avLst>
                <a:gd name="adj" fmla="val 41654"/>
              </a:avLst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00320" y="3333600"/>
              <a:ext cx="381240" cy="304560"/>
            </a:xfrm>
            <a:prstGeom prst="ellipse">
              <a:avLst/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257800" y="4124160"/>
            <a:ext cx="144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Develo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52440" y="220968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24600" y="2619360"/>
            <a:ext cx="4680" cy="107172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39000" y="2143080"/>
            <a:ext cx="178092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9280" y="2362320"/>
            <a:ext cx="4400640" cy="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52440" y="276228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0280" y="3228840"/>
            <a:ext cx="4680" cy="107172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24320" y="2752560"/>
            <a:ext cx="178128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57440" y="2952720"/>
            <a:ext cx="2666880" cy="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52440" y="337176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19640" y="4238640"/>
            <a:ext cx="4680" cy="10717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5240" y="3514680"/>
            <a:ext cx="1733400" cy="670680"/>
          </a:xfrm>
          <a:prstGeom prst="rect">
            <a:avLst/>
          </a:prstGeom>
          <a:solidFill>
            <a:srgbClr val="ffcc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integration task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47720" y="3562200"/>
            <a:ext cx="838440" cy="1526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61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181160" y="5143680"/>
            <a:ext cx="2362320" cy="1162080"/>
            <a:chOff x="1181160" y="5143680"/>
            <a:chExt cx="2362320" cy="1162080"/>
          </a:xfrm>
        </p:grpSpPr>
        <p:sp>
          <p:nvSpPr>
            <p:cNvPr id="306" name=""/>
            <p:cNvSpPr/>
            <p:nvPr/>
          </p:nvSpPr>
          <p:spPr>
            <a:xfrm>
              <a:off x="1247760" y="514368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181160" y="5543280"/>
              <a:ext cx="2362320" cy="762480"/>
              <a:chOff x="1181160" y="5543280"/>
              <a:chExt cx="2362320" cy="762480"/>
            </a:xfrm>
          </p:grpSpPr>
          <p:cxnSp>
            <p:nvCxnSpPr>
              <p:cNvPr id="308" name=""/>
              <p:cNvCxnSpPr/>
              <p:nvPr/>
            </p:nvCxnSpPr>
            <p:spPr>
              <a:xfrm flipV="1" rot="16200000">
                <a:off x="2350080" y="4630680"/>
                <a:ext cx="167040" cy="1991520"/>
              </a:xfrm>
              <a:prstGeom prst="curvedConnector5">
                <a:avLst>
                  <a:gd name="adj1" fmla="val -125917"/>
                  <a:gd name="adj2" fmla="val 49990"/>
                  <a:gd name="adj3" fmla="val -125917"/>
                </a:avLst>
              </a:prstGeom>
              <a:ln w="38160">
                <a:solidFill>
                  <a:srgbClr val="99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309" name=""/>
              <p:cNvSpPr/>
              <p:nvPr/>
            </p:nvSpPr>
            <p:spPr>
              <a:xfrm>
                <a:off x="1181160" y="5848200"/>
                <a:ext cx="2362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 Narrow"/>
                  </a:rPr>
                  <a:t>integrator pus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324160" y="4419720"/>
            <a:ext cx="761760" cy="819000"/>
            <a:chOff x="2324160" y="4419720"/>
            <a:chExt cx="761760" cy="819000"/>
          </a:xfrm>
        </p:grpSpPr>
        <p:sp>
          <p:nvSpPr>
            <p:cNvPr id="311" name=""/>
            <p:cNvSpPr/>
            <p:nvPr/>
          </p:nvSpPr>
          <p:spPr>
            <a:xfrm>
              <a:off x="2324160" y="4781520"/>
              <a:ext cx="761760" cy="457200"/>
            </a:xfrm>
            <a:prstGeom prst="parallelogram">
              <a:avLst>
                <a:gd name="adj" fmla="val 41654"/>
              </a:avLst>
            </a:prstGeom>
            <a:solidFill>
              <a:srgbClr val="ff99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28720" y="4419720"/>
              <a:ext cx="381240" cy="30456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943280" y="5200560"/>
            <a:ext cx="144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Integ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238560" y="4090680"/>
            <a:ext cx="3695760" cy="1828800"/>
            <a:chOff x="3238560" y="4090680"/>
            <a:chExt cx="3695760" cy="1828800"/>
          </a:xfrm>
        </p:grpSpPr>
        <p:sp>
          <p:nvSpPr>
            <p:cNvPr id="315" name=""/>
            <p:cNvSpPr/>
            <p:nvPr/>
          </p:nvSpPr>
          <p:spPr>
            <a:xfrm>
              <a:off x="3238560" y="5310360"/>
              <a:ext cx="380880" cy="380880"/>
            </a:xfrm>
            <a:prstGeom prst="ellipse">
              <a:avLst/>
            </a:prstGeom>
            <a:solidFill>
              <a:srgbClr val="ffcccc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16" name=""/>
            <p:cNvCxnSpPr>
              <a:stCxn id="317" idx="4"/>
              <a:endCxn id="315" idx="5"/>
            </p:cNvCxnSpPr>
            <p:nvPr/>
          </p:nvCxnSpPr>
          <p:spPr>
            <a:xfrm rot="5400000">
              <a:off x="4466880" y="3187440"/>
              <a:ext cx="1564200" cy="3371040"/>
            </a:xfrm>
            <a:prstGeom prst="curvedConnector5">
              <a:avLst>
                <a:gd name="adj1" fmla="val 116942"/>
                <a:gd name="adj2" fmla="val 49994"/>
                <a:gd name="adj3" fmla="val 116942"/>
              </a:avLst>
            </a:prstGeom>
            <a:ln w="38160">
              <a:solidFill>
                <a:srgbClr val="ff66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318" name=""/>
          <p:cNvSpPr/>
          <p:nvPr/>
        </p:nvSpPr>
        <p:spPr>
          <a:xfrm>
            <a:off x="5029200" y="430056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24520" y="350532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3880" y="369108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8840" y="289548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233880" y="4514760"/>
            <a:ext cx="2433600" cy="1134000"/>
            <a:chOff x="3233880" y="4514760"/>
            <a:chExt cx="2433600" cy="1134000"/>
          </a:xfrm>
        </p:grpSpPr>
        <p:sp>
          <p:nvSpPr>
            <p:cNvPr id="322" name=""/>
            <p:cNvSpPr/>
            <p:nvPr/>
          </p:nvSpPr>
          <p:spPr>
            <a:xfrm>
              <a:off x="3233880" y="4514760"/>
              <a:ext cx="380880" cy="381240"/>
            </a:xfrm>
            <a:prstGeom prst="ellipse">
              <a:avLst/>
            </a:prstGeom>
            <a:solidFill>
              <a:srgbClr val="ffcccc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305160" y="4700160"/>
              <a:ext cx="2362320" cy="948600"/>
              <a:chOff x="3305160" y="4700160"/>
              <a:chExt cx="2362320" cy="948600"/>
            </a:xfrm>
          </p:grpSpPr>
          <p:sp>
            <p:nvSpPr>
              <p:cNvPr id="324" name=""/>
              <p:cNvSpPr/>
              <p:nvPr/>
            </p:nvSpPr>
            <p:spPr>
              <a:xfrm>
                <a:off x="3305160" y="5191200"/>
                <a:ext cx="2362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6600"/>
                    </a:solidFill>
                    <a:latin typeface="Arial Narrow"/>
                  </a:rPr>
                  <a:t>integrator pul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325" name=""/>
              <p:cNvCxnSpPr>
                <a:stCxn id="318" idx="4"/>
                <a:endCxn id="322" idx="5"/>
              </p:cNvCxnSpPr>
              <p:nvPr/>
            </p:nvCxnSpPr>
            <p:spPr>
              <a:xfrm rot="5400000">
                <a:off x="4309560" y="3949560"/>
                <a:ext cx="159480" cy="1661040"/>
              </a:xfrm>
              <a:prstGeom prst="curvedConnector5">
                <a:avLst>
                  <a:gd name="adj1" fmla="val 266968"/>
                  <a:gd name="adj2" fmla="val 49989"/>
                  <a:gd name="adj3" fmla="val 266968"/>
                </a:avLst>
              </a:prstGeom>
              <a:ln w="38160">
                <a:solidFill>
                  <a:srgbClr val="ff6600"/>
                </a:solidFill>
                <a:prstDash val="dash"/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sh-Pull “Docking” Bran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69360" y="996480"/>
            <a:ext cx="8589960" cy="5136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the push-vs-pull tension by combining the best of e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612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push (“dock”) their private branch changes to an intermediate int-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860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branch based off stable int-bran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612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or regularly builds &amp; tests the state of the docking branch and pulls its changes to the stable int-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225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612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hoices for productivi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bility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612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developers a choice of which branch to base changes on and how stable they need their base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612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integrators choice of pulling from the docking-line, or the individual dev-branches one-by-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612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“throw it over the wall” without sacrificing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2160" y="46332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sh-Pull “Docking” Branch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04960" y="1081080"/>
            <a:ext cx="1752480" cy="80604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00280" y="1938240"/>
            <a:ext cx="0" cy="320040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620120" y="3390840"/>
            <a:ext cx="761760" cy="819360"/>
            <a:chOff x="7620120" y="3390840"/>
            <a:chExt cx="761760" cy="819360"/>
          </a:xfrm>
        </p:grpSpPr>
        <p:sp>
          <p:nvSpPr>
            <p:cNvPr id="332" name=""/>
            <p:cNvSpPr/>
            <p:nvPr/>
          </p:nvSpPr>
          <p:spPr>
            <a:xfrm>
              <a:off x="7620120" y="3753000"/>
              <a:ext cx="761760" cy="457200"/>
            </a:xfrm>
            <a:prstGeom prst="parallelogram">
              <a:avLst>
                <a:gd name="adj" fmla="val 41654"/>
              </a:avLst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4680" y="3390840"/>
              <a:ext cx="381240" cy="304920"/>
            </a:xfrm>
            <a:prstGeom prst="ellipse">
              <a:avLst/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238880" y="4172040"/>
            <a:ext cx="144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Develo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381560" y="3981600"/>
            <a:ext cx="762120" cy="819000"/>
            <a:chOff x="4381560" y="3981600"/>
            <a:chExt cx="762120" cy="819000"/>
          </a:xfrm>
        </p:grpSpPr>
        <p:sp>
          <p:nvSpPr>
            <p:cNvPr id="336" name=""/>
            <p:cNvSpPr/>
            <p:nvPr/>
          </p:nvSpPr>
          <p:spPr>
            <a:xfrm>
              <a:off x="4381560" y="4343400"/>
              <a:ext cx="762120" cy="457200"/>
            </a:xfrm>
            <a:prstGeom prst="parallelogram">
              <a:avLst>
                <a:gd name="adj" fmla="val 41673"/>
              </a:avLst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86480" y="3981600"/>
              <a:ext cx="380880" cy="304560"/>
            </a:xfrm>
            <a:prstGeom prst="ellipse">
              <a:avLst/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000680" y="4762440"/>
            <a:ext cx="144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Develo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009960" y="4776840"/>
            <a:ext cx="4152960" cy="1143000"/>
            <a:chOff x="3009960" y="4776840"/>
            <a:chExt cx="4152960" cy="1143000"/>
          </a:xfrm>
        </p:grpSpPr>
        <p:cxnSp>
          <p:nvCxnSpPr>
            <p:cNvPr id="340" name=""/>
            <p:cNvCxnSpPr>
              <a:stCxn id="341" idx="4"/>
              <a:endCxn id="342" idx="5"/>
            </p:cNvCxnSpPr>
            <p:nvPr/>
          </p:nvCxnSpPr>
          <p:spPr>
            <a:xfrm rot="5400000">
              <a:off x="4809600" y="3301920"/>
              <a:ext cx="878400" cy="3828240"/>
            </a:xfrm>
            <a:prstGeom prst="curvedConnector5">
              <a:avLst>
                <a:gd name="adj1" fmla="val 130176"/>
                <a:gd name="adj2" fmla="val 49995"/>
                <a:gd name="adj3" fmla="val 130176"/>
              </a:avLst>
            </a:prstGeom>
            <a:ln w="38160">
              <a:solidFill>
                <a:srgbClr val="ff66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3009960" y="5310360"/>
              <a:ext cx="380880" cy="380880"/>
            </a:xfrm>
            <a:prstGeom prst="ellipse">
              <a:avLst/>
            </a:prstGeom>
            <a:solidFill>
              <a:srgbClr val="ffcccc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81160" y="5143680"/>
            <a:ext cx="2362320" cy="1162080"/>
            <a:chOff x="1181160" y="5143680"/>
            <a:chExt cx="2362320" cy="1162080"/>
          </a:xfrm>
        </p:grpSpPr>
        <p:sp>
          <p:nvSpPr>
            <p:cNvPr id="344" name=""/>
            <p:cNvSpPr/>
            <p:nvPr/>
          </p:nvSpPr>
          <p:spPr>
            <a:xfrm>
              <a:off x="1476360" y="514368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1181160" y="5543280"/>
              <a:ext cx="2362320" cy="762480"/>
              <a:chOff x="1181160" y="5543280"/>
              <a:chExt cx="2362320" cy="762480"/>
            </a:xfrm>
          </p:grpSpPr>
          <p:cxnSp>
            <p:nvCxnSpPr>
              <p:cNvPr id="346" name=""/>
              <p:cNvCxnSpPr/>
              <p:nvPr/>
            </p:nvCxnSpPr>
            <p:spPr>
              <a:xfrm flipV="1" rot="16200000">
                <a:off x="2350080" y="4859280"/>
                <a:ext cx="167040" cy="1534320"/>
              </a:xfrm>
              <a:prstGeom prst="curvedConnector5">
                <a:avLst>
                  <a:gd name="adj1" fmla="val -125917"/>
                  <a:gd name="adj2" fmla="val 49988"/>
                  <a:gd name="adj3" fmla="val -125917"/>
                </a:avLst>
              </a:prstGeom>
              <a:ln w="38160">
                <a:solidFill>
                  <a:srgbClr val="99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347" name=""/>
              <p:cNvSpPr/>
              <p:nvPr/>
            </p:nvSpPr>
            <p:spPr>
              <a:xfrm>
                <a:off x="1181160" y="5848200"/>
                <a:ext cx="2362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 Narrow"/>
                  </a:rPr>
                  <a:t>Integrator pul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685800" y="4019400"/>
            <a:ext cx="762120" cy="819360"/>
            <a:chOff x="685800" y="4019400"/>
            <a:chExt cx="762120" cy="819360"/>
          </a:xfrm>
        </p:grpSpPr>
        <p:sp>
          <p:nvSpPr>
            <p:cNvPr id="349" name=""/>
            <p:cNvSpPr/>
            <p:nvPr/>
          </p:nvSpPr>
          <p:spPr>
            <a:xfrm>
              <a:off x="685800" y="4381560"/>
              <a:ext cx="762120" cy="457200"/>
            </a:xfrm>
            <a:prstGeom prst="parallelogram">
              <a:avLst>
                <a:gd name="adj" fmla="val 41673"/>
              </a:avLst>
            </a:prstGeom>
            <a:solidFill>
              <a:srgbClr val="ff99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90720" y="4019400"/>
              <a:ext cx="380880" cy="30492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04920" y="4800600"/>
            <a:ext cx="144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Integ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5360" y="2743200"/>
            <a:ext cx="4680" cy="2567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05080" y="2009880"/>
            <a:ext cx="1733400" cy="670680"/>
          </a:xfrm>
          <a:prstGeom prst="rect">
            <a:avLst/>
          </a:prstGeom>
          <a:solidFill>
            <a:srgbClr val="ffcc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ocking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2362320"/>
            <a:ext cx="4572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81040" y="217188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53200" y="3305160"/>
            <a:ext cx="4680" cy="107172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81040" y="276228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67600" y="2828880"/>
            <a:ext cx="178092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47880" y="2933640"/>
            <a:ext cx="4419720" cy="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38880" y="3914640"/>
            <a:ext cx="4680" cy="107172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81040" y="337176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438360"/>
            <a:ext cx="178128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66960" y="3562200"/>
            <a:ext cx="2666880" cy="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005280" y="4514760"/>
            <a:ext cx="3309840" cy="1460880"/>
            <a:chOff x="3005280" y="4514760"/>
            <a:chExt cx="3309840" cy="1460880"/>
          </a:xfrm>
        </p:grpSpPr>
        <p:grpSp>
          <p:nvGrpSpPr>
            <p:cNvPr id="365" name=""/>
            <p:cNvGrpSpPr/>
            <p:nvPr/>
          </p:nvGrpSpPr>
          <p:grpSpPr>
            <a:xfrm>
              <a:off x="3330360" y="4858920"/>
              <a:ext cx="2984760" cy="1116720"/>
              <a:chOff x="3330360" y="4858920"/>
              <a:chExt cx="2984760" cy="1116720"/>
            </a:xfrm>
          </p:grpSpPr>
          <p:sp>
            <p:nvSpPr>
              <p:cNvPr id="366" name=""/>
              <p:cNvSpPr/>
              <p:nvPr/>
            </p:nvSpPr>
            <p:spPr>
              <a:xfrm>
                <a:off x="3952800" y="5518080"/>
                <a:ext cx="2362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6600"/>
                    </a:solidFill>
                    <a:latin typeface="Arial Narrow"/>
                  </a:rPr>
                  <a:t>developer pus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367" name=""/>
              <p:cNvCxnSpPr/>
              <p:nvPr/>
            </p:nvCxnSpPr>
            <p:spPr>
              <a:xfrm flipV="1" rot="16200000">
                <a:off x="4125600" y="4063320"/>
                <a:ext cx="527760" cy="2118240"/>
              </a:xfrm>
              <a:prstGeom prst="curvedConnector5">
                <a:avLst>
                  <a:gd name="adj1" fmla="val -39726"/>
                  <a:gd name="adj2" fmla="val 49991"/>
                  <a:gd name="adj3" fmla="val -39726"/>
                </a:avLst>
              </a:prstGeom>
              <a:ln w="38160">
                <a:solidFill>
                  <a:srgbClr val="ff6600"/>
                </a:solidFill>
                <a:prstDash val="dash"/>
                <a:miter/>
                <a:tailEnd len="med" type="triangle" w="med"/>
              </a:ln>
            </p:spPr>
          </p:cxnSp>
        </p:grpSp>
        <p:sp>
          <p:nvSpPr>
            <p:cNvPr id="368" name=""/>
            <p:cNvSpPr/>
            <p:nvPr/>
          </p:nvSpPr>
          <p:spPr>
            <a:xfrm>
              <a:off x="3005280" y="4514760"/>
              <a:ext cx="380880" cy="381240"/>
            </a:xfrm>
            <a:prstGeom prst="ellipse">
              <a:avLst/>
            </a:prstGeom>
            <a:solidFill>
              <a:srgbClr val="ffcccc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257800" y="498636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3120" y="419112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72480" y="437688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967440" y="358128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base (Up-Merg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3840" y="958320"/>
            <a:ext cx="8332920" cy="513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“developer-push”, want to minimize risk &amp; complexity of merges to int-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solution: “rebase” before merging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edit cspec to replace old base-selector with n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erge from the new baselevel to the dev-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36d94"/>
                </a:solidFill>
                <a:latin typeface="Arial"/>
              </a:rPr>
              <a:t>Don’t forget step one or you will merge too m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enforced and semi-automated in UCM with the “rebase before deliver”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90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and Ri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complexity of merging to the int-bra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most conflicts resolved first on the dev-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s recent changes to be reconciled soo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s developers more aware of others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isk of merging in “tainted”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appens on the dev-branch instead of the int-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ethod to back out changes: label or sub-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3840" y="1112400"/>
            <a:ext cx="8332920" cy="3925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successful techniques for branching and m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and risks of each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nd when to use the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lect and combine techniques into overall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, compare and contrast several overal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general Branching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M and 3 other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tems to properly support eac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ranching techniques into several core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how to select a branching solution that best fits your project’s environment and organiz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160" y="46332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base Before Merge-Back (Deli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7004160" y="3724200"/>
            <a:ext cx="761760" cy="819000"/>
            <a:chOff x="7004160" y="3724200"/>
            <a:chExt cx="761760" cy="819000"/>
          </a:xfrm>
        </p:grpSpPr>
        <p:sp>
          <p:nvSpPr>
            <p:cNvPr id="376" name=""/>
            <p:cNvSpPr/>
            <p:nvPr/>
          </p:nvSpPr>
          <p:spPr>
            <a:xfrm>
              <a:off x="7004160" y="4086000"/>
              <a:ext cx="761760" cy="457200"/>
            </a:xfrm>
            <a:prstGeom prst="parallelogram">
              <a:avLst>
                <a:gd name="adj" fmla="val 41654"/>
              </a:avLst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08720" y="3724200"/>
              <a:ext cx="381240" cy="304560"/>
            </a:xfrm>
            <a:prstGeom prst="ellipse">
              <a:avLst/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642000" y="4505400"/>
            <a:ext cx="129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Develo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95640" y="1119240"/>
            <a:ext cx="1752480" cy="76788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879a"/>
                </a:solidFill>
                <a:latin typeface="Arial Narrow"/>
              </a:rPr>
              <a:t>integration 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90960" y="1938240"/>
            <a:ext cx="1440" cy="320040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95480" y="401940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43720" y="2990880"/>
            <a:ext cx="9360" cy="186696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909880" y="247644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305160" y="2523960"/>
            <a:ext cx="4133880" cy="426960"/>
            <a:chOff x="3305160" y="2523960"/>
            <a:chExt cx="4133880" cy="426960"/>
          </a:xfrm>
        </p:grpSpPr>
        <p:sp>
          <p:nvSpPr>
            <p:cNvPr id="385" name=""/>
            <p:cNvSpPr/>
            <p:nvPr/>
          </p:nvSpPr>
          <p:spPr>
            <a:xfrm>
              <a:off x="5657760" y="2523960"/>
              <a:ext cx="1781280" cy="426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879a"/>
                  </a:solidFill>
                  <a:latin typeface="Arial Narrow"/>
                </a:rPr>
                <a:t>private branc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05160" y="2666880"/>
              <a:ext cx="2343240" cy="0"/>
            </a:xfrm>
            <a:prstGeom prst="line">
              <a:avLst/>
            </a:prstGeom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348240" y="329580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220920" y="3695760"/>
            <a:ext cx="3508560" cy="743040"/>
            <a:chOff x="3220920" y="3695760"/>
            <a:chExt cx="3508560" cy="743040"/>
          </a:xfrm>
        </p:grpSpPr>
        <p:grpSp>
          <p:nvGrpSpPr>
            <p:cNvPr id="389" name=""/>
            <p:cNvGrpSpPr/>
            <p:nvPr/>
          </p:nvGrpSpPr>
          <p:grpSpPr>
            <a:xfrm>
              <a:off x="3220920" y="3695760"/>
              <a:ext cx="3183480" cy="512280"/>
              <a:chOff x="3220920" y="3695760"/>
              <a:chExt cx="3183480" cy="512280"/>
            </a:xfrm>
          </p:grpSpPr>
          <p:cxnSp>
            <p:nvCxnSpPr>
              <p:cNvPr id="390" name=""/>
              <p:cNvCxnSpPr>
                <a:stCxn id="381" idx="7"/>
                <a:endCxn id="391" idx="1"/>
              </p:cNvCxnSpPr>
              <p:nvPr/>
            </p:nvCxnSpPr>
            <p:spPr>
              <a:xfrm flipH="1" rot="16200000">
                <a:off x="4793400" y="2483280"/>
                <a:ext cx="38880" cy="3183840"/>
              </a:xfrm>
              <a:prstGeom prst="curvedConnector5">
                <a:avLst>
                  <a:gd name="adj1" fmla="val -695327"/>
                  <a:gd name="adj2" fmla="val 49994"/>
                  <a:gd name="adj3" fmla="val -695327"/>
                </a:avLst>
              </a:prstGeom>
              <a:ln w="38160">
                <a:solidFill>
                  <a:srgbClr val="ff0066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392" name=""/>
              <p:cNvSpPr/>
              <p:nvPr/>
            </p:nvSpPr>
            <p:spPr>
              <a:xfrm>
                <a:off x="3511440" y="3695760"/>
                <a:ext cx="236232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Arial Narrow"/>
                  </a:rPr>
                  <a:t>rebas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348240" y="4057560"/>
              <a:ext cx="381240" cy="38124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889360" y="4815000"/>
            <a:ext cx="3844800" cy="996480"/>
            <a:chOff x="2889360" y="4815000"/>
            <a:chExt cx="3844800" cy="996480"/>
          </a:xfrm>
        </p:grpSpPr>
        <p:sp>
          <p:nvSpPr>
            <p:cNvPr id="394" name=""/>
            <p:cNvSpPr/>
            <p:nvPr/>
          </p:nvSpPr>
          <p:spPr>
            <a:xfrm>
              <a:off x="6353280" y="481500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3079440" y="5214960"/>
              <a:ext cx="3464280" cy="596520"/>
              <a:chOff x="3079440" y="5214960"/>
              <a:chExt cx="3464280" cy="596520"/>
            </a:xfrm>
          </p:grpSpPr>
          <p:cxnSp>
            <p:nvCxnSpPr>
              <p:cNvPr id="396" name=""/>
              <p:cNvCxnSpPr>
                <a:stCxn id="394" idx="4"/>
                <a:endCxn id="397" idx="4"/>
              </p:cNvCxnSpPr>
              <p:nvPr/>
            </p:nvCxnSpPr>
            <p:spPr>
              <a:xfrm rot="5400000">
                <a:off x="4648320" y="3645720"/>
                <a:ext cx="326160" cy="3464640"/>
              </a:xfrm>
              <a:prstGeom prst="curvedConnector5">
                <a:avLst>
                  <a:gd name="adj1" fmla="val 164309"/>
                  <a:gd name="adj2" fmla="val 49994"/>
                  <a:gd name="adj3" fmla="val 164309"/>
                </a:avLst>
              </a:prstGeom>
              <a:ln w="38160">
                <a:solidFill>
                  <a:srgbClr val="ff66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398" name=""/>
              <p:cNvSpPr/>
              <p:nvPr/>
            </p:nvSpPr>
            <p:spPr>
              <a:xfrm>
                <a:off x="3419640" y="5299200"/>
                <a:ext cx="23619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Arial Narrow"/>
                  </a:rPr>
                  <a:t> 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Arial Narrow"/>
                  </a:rPr>
                  <a:t>merge bac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2889360" y="514044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branching – An Alternative To Reba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83840" y="1112400"/>
            <a:ext cx="8332920" cy="5159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private branch and view based off the latest or “recommended” build/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from the existing private branch (or it’s “view”) to the new private branch+view you just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s a short-transaction from a long-transaction by using the re-branch-type as a “do over”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90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/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engthy Rebase time – but requires an extra branch &amp;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to merge once, even if you needed to “rebase” from multiple component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manually edit config-spec in base Rational Clear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o need to automate via a “wrapper script” – easier from G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create a “checkpoint” label before r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point safe on original_branch/L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UCM when you haven’t rebased in quite some time, just create a new developmen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branching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95360" y="1224000"/>
            <a:ext cx="1752480" cy="80604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90680" y="2081160"/>
            <a:ext cx="0" cy="320040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530680" y="5148360"/>
            <a:ext cx="1447560" cy="1217520"/>
            <a:chOff x="5530680" y="5148360"/>
            <a:chExt cx="1447560" cy="1217520"/>
          </a:xfrm>
        </p:grpSpPr>
        <p:grpSp>
          <p:nvGrpSpPr>
            <p:cNvPr id="405" name=""/>
            <p:cNvGrpSpPr/>
            <p:nvPr/>
          </p:nvGrpSpPr>
          <p:grpSpPr>
            <a:xfrm>
              <a:off x="5949720" y="5148360"/>
              <a:ext cx="761760" cy="818280"/>
              <a:chOff x="5949720" y="5148360"/>
              <a:chExt cx="761760" cy="818280"/>
            </a:xfrm>
          </p:grpSpPr>
          <p:sp>
            <p:nvSpPr>
              <p:cNvPr id="406" name=""/>
              <p:cNvSpPr/>
              <p:nvPr/>
            </p:nvSpPr>
            <p:spPr>
              <a:xfrm>
                <a:off x="5949720" y="5509800"/>
                <a:ext cx="761760" cy="456840"/>
              </a:xfrm>
              <a:prstGeom prst="parallelogram">
                <a:avLst>
                  <a:gd name="adj" fmla="val 41686"/>
                </a:avLst>
              </a:prstGeom>
              <a:solidFill>
                <a:srgbClr val="eaeaea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54280" y="5148360"/>
                <a:ext cx="380520" cy="30420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5530680" y="5908320"/>
              <a:ext cx="1447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071800" y="231444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19800" y="3305160"/>
            <a:ext cx="5040" cy="107172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71800" y="290520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34200" y="2828880"/>
            <a:ext cx="178128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38280" y="3076560"/>
            <a:ext cx="3872160" cy="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71800" y="351468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457360" y="3454560"/>
            <a:ext cx="3689280" cy="1785600"/>
            <a:chOff x="2457360" y="3454560"/>
            <a:chExt cx="3689280" cy="1785600"/>
          </a:xfrm>
        </p:grpSpPr>
        <p:sp>
          <p:nvSpPr>
            <p:cNvPr id="416" name=""/>
            <p:cNvSpPr/>
            <p:nvPr/>
          </p:nvSpPr>
          <p:spPr>
            <a:xfrm>
              <a:off x="5251320" y="4168800"/>
              <a:ext cx="4680" cy="1071360"/>
            </a:xfrm>
            <a:prstGeom prst="line">
              <a:avLst/>
            </a:prstGeom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457360" y="3454560"/>
              <a:ext cx="3689280" cy="670680"/>
              <a:chOff x="2457360" y="3454560"/>
              <a:chExt cx="3689280" cy="670680"/>
            </a:xfrm>
          </p:grpSpPr>
          <p:sp>
            <p:nvSpPr>
              <p:cNvPr id="418" name=""/>
              <p:cNvSpPr/>
              <p:nvPr/>
            </p:nvSpPr>
            <p:spPr>
              <a:xfrm>
                <a:off x="4365360" y="3454560"/>
                <a:ext cx="1781280" cy="670680"/>
              </a:xfrm>
              <a:prstGeom prst="rect">
                <a:avLst/>
              </a:prstGeom>
              <a:solidFill>
                <a:srgbClr val="ccccff"/>
              </a:solidFill>
              <a:ln w="38160">
                <a:solidFill>
                  <a:srgbClr val="736d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 Narrow"/>
                  </a:rPr>
                  <a:t>privat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 Narrow"/>
                  </a:rPr>
                  <a:t>re-branc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457360" y="3705120"/>
                <a:ext cx="1901880" cy="0"/>
              </a:xfrm>
              <a:prstGeom prst="line">
                <a:avLst/>
              </a:prstGeom>
              <a:ln w="38160">
                <a:solidFill>
                  <a:srgbClr val="736d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"/>
          <p:cNvSpPr/>
          <p:nvPr/>
        </p:nvSpPr>
        <p:spPr>
          <a:xfrm>
            <a:off x="7039080" y="437688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34040" y="358128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065560" y="4460760"/>
            <a:ext cx="2028960" cy="609840"/>
            <a:chOff x="5065560" y="4460760"/>
            <a:chExt cx="2028960" cy="609840"/>
          </a:xfrm>
        </p:grpSpPr>
        <p:sp>
          <p:nvSpPr>
            <p:cNvPr id="423" name=""/>
            <p:cNvSpPr/>
            <p:nvPr/>
          </p:nvSpPr>
          <p:spPr>
            <a:xfrm>
              <a:off x="5065560" y="4460760"/>
              <a:ext cx="380880" cy="38124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24" name=""/>
            <p:cNvCxnSpPr>
              <a:stCxn id="420" idx="3"/>
              <a:endCxn id="423" idx="5"/>
            </p:cNvCxnSpPr>
            <p:nvPr/>
          </p:nvCxnSpPr>
          <p:spPr>
            <a:xfrm rot="5400000">
              <a:off x="6200280" y="3911400"/>
              <a:ext cx="84600" cy="1704240"/>
            </a:xfrm>
            <a:prstGeom prst="curvedConnector5">
              <a:avLst>
                <a:gd name="adj1" fmla="val 414957"/>
                <a:gd name="adj2" fmla="val 49989"/>
                <a:gd name="adj3" fmla="val 414957"/>
              </a:avLst>
            </a:prstGeom>
            <a:ln w="38160">
              <a:solidFill>
                <a:srgbClr val="ff66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425" name=""/>
          <p:cNvGrpSpPr/>
          <p:nvPr/>
        </p:nvGrpSpPr>
        <p:grpSpPr>
          <a:xfrm>
            <a:off x="2066760" y="5240160"/>
            <a:ext cx="3384720" cy="658080"/>
            <a:chOff x="2066760" y="5240160"/>
            <a:chExt cx="3384720" cy="658080"/>
          </a:xfrm>
        </p:grpSpPr>
        <p:sp>
          <p:nvSpPr>
            <p:cNvPr id="426" name=""/>
            <p:cNvSpPr/>
            <p:nvPr/>
          </p:nvSpPr>
          <p:spPr>
            <a:xfrm>
              <a:off x="2066760" y="5286240"/>
              <a:ext cx="380880" cy="38124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70240" y="5240160"/>
              <a:ext cx="381240" cy="38124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28" name=""/>
            <p:cNvCxnSpPr>
              <a:stCxn id="427" idx="3"/>
              <a:endCxn id="426" idx="5"/>
            </p:cNvCxnSpPr>
            <p:nvPr/>
          </p:nvCxnSpPr>
          <p:spPr>
            <a:xfrm rot="5400000">
              <a:off x="3735360" y="4240800"/>
              <a:ext cx="46800" cy="2734560"/>
            </a:xfrm>
            <a:prstGeom prst="curvedConnector5">
              <a:avLst>
                <a:gd name="adj1" fmla="val 675193"/>
                <a:gd name="adj2" fmla="val 49993"/>
                <a:gd name="adj3" fmla="val 675193"/>
              </a:avLst>
            </a:prstGeom>
            <a:ln w="38160">
              <a:solidFill>
                <a:srgbClr val="ff66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429" name=""/>
          <p:cNvGrpSpPr/>
          <p:nvPr/>
        </p:nvGrpSpPr>
        <p:grpSpPr>
          <a:xfrm>
            <a:off x="835200" y="2824200"/>
            <a:ext cx="1156320" cy="528120"/>
            <a:chOff x="835200" y="2824200"/>
            <a:chExt cx="1156320" cy="528120"/>
          </a:xfrm>
        </p:grpSpPr>
        <p:grpSp>
          <p:nvGrpSpPr>
            <p:cNvPr id="430" name=""/>
            <p:cNvGrpSpPr/>
            <p:nvPr/>
          </p:nvGrpSpPr>
          <p:grpSpPr>
            <a:xfrm>
              <a:off x="1074240" y="2824200"/>
              <a:ext cx="917280" cy="528120"/>
              <a:chOff x="1074240" y="2824200"/>
              <a:chExt cx="917280" cy="528120"/>
            </a:xfrm>
          </p:grpSpPr>
          <p:sp>
            <p:nvSpPr>
              <p:cNvPr id="431" name=""/>
              <p:cNvSpPr/>
              <p:nvPr/>
            </p:nvSpPr>
            <p:spPr>
              <a:xfrm>
                <a:off x="1074240" y="2824200"/>
                <a:ext cx="917280" cy="52812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79480" y="3022200"/>
                <a:ext cx="141120" cy="13176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835200" y="2853360"/>
              <a:ext cx="982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0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19000" y="3524400"/>
            <a:ext cx="1169640" cy="514080"/>
            <a:chOff x="819000" y="3524400"/>
            <a:chExt cx="1169640" cy="514080"/>
          </a:xfrm>
        </p:grpSpPr>
        <p:grpSp>
          <p:nvGrpSpPr>
            <p:cNvPr id="435" name=""/>
            <p:cNvGrpSpPr/>
            <p:nvPr/>
          </p:nvGrpSpPr>
          <p:grpSpPr>
            <a:xfrm>
              <a:off x="1060920" y="3524400"/>
              <a:ext cx="927720" cy="514080"/>
              <a:chOff x="1060920" y="3524400"/>
              <a:chExt cx="927720" cy="514080"/>
            </a:xfrm>
          </p:grpSpPr>
          <p:sp>
            <p:nvSpPr>
              <p:cNvPr id="436" name=""/>
              <p:cNvSpPr/>
              <p:nvPr/>
            </p:nvSpPr>
            <p:spPr>
              <a:xfrm>
                <a:off x="1060920" y="3524400"/>
                <a:ext cx="927720" cy="51408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74440" y="3717000"/>
                <a:ext cx="142920" cy="12816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819000" y="3552480"/>
              <a:ext cx="993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0.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Part 3: Solu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83840" y="1252440"/>
            <a:ext cx="8332920" cy="2460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ranching Models (Approach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Lean and Lazy" (Agile)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hort, Fat &amp; Pretty“ (SFP) Branching + M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Long, Lean &amp; Ugly" (LLU) Branching + M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UCM-Style Branching &amp; Merg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83840" y="1050840"/>
            <a:ext cx="8332920" cy="4208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tegration stream (branch) per “pro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Lazy or Early bra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base before merge-back (deli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-push integration (prefer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o Developer-push start, Integrator finishes the job (MultiSite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branch per development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 has typically only 1 or 2 development streams pe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stream has &gt;1 activity; UCM tracks the change-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UCM-Style Branching &amp; Merging 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[continued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3840" y="1136160"/>
            <a:ext cx="8332920" cy="411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Benefits/Features of U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-based change-set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it possible to “group together” the set of changes for an activity without using a branch (fewer branches to cre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development stream for fea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eveloper has own activity, but checks into shared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2003 introduces a “single-stream project” encouraging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or Incremental Baselines (labels only what chang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 of Baselines may be 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, Built, Tested, Rejected,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ork is started on “Recommended” baseline (typically Te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UCM-Style Branching &amp; Merging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004160" y="3724200"/>
            <a:ext cx="761760" cy="819000"/>
            <a:chOff x="7004160" y="3724200"/>
            <a:chExt cx="761760" cy="819000"/>
          </a:xfrm>
        </p:grpSpPr>
        <p:sp>
          <p:nvSpPr>
            <p:cNvPr id="447" name=""/>
            <p:cNvSpPr/>
            <p:nvPr/>
          </p:nvSpPr>
          <p:spPr>
            <a:xfrm>
              <a:off x="7004160" y="4086000"/>
              <a:ext cx="761760" cy="457200"/>
            </a:xfrm>
            <a:prstGeom prst="parallelogram">
              <a:avLst>
                <a:gd name="adj" fmla="val 41654"/>
              </a:avLst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08720" y="3724200"/>
              <a:ext cx="381240" cy="304560"/>
            </a:xfrm>
            <a:prstGeom prst="ellipse">
              <a:avLst/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642000" y="4505400"/>
            <a:ext cx="129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Develo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38440" y="1133640"/>
            <a:ext cx="2636640" cy="76788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879a"/>
                </a:solidFill>
                <a:latin typeface="Arial Narrow"/>
              </a:rPr>
              <a:t>Project integration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90960" y="1938240"/>
            <a:ext cx="1440" cy="320040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01940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543720" y="2990880"/>
            <a:ext cx="9360" cy="186696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09880" y="247644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303720" y="2286000"/>
            <a:ext cx="4521240" cy="670680"/>
            <a:chOff x="3303720" y="2286000"/>
            <a:chExt cx="4521240" cy="670680"/>
          </a:xfrm>
        </p:grpSpPr>
        <p:sp>
          <p:nvSpPr>
            <p:cNvPr id="456" name=""/>
            <p:cNvSpPr/>
            <p:nvPr/>
          </p:nvSpPr>
          <p:spPr>
            <a:xfrm>
              <a:off x="5878440" y="2286000"/>
              <a:ext cx="1946520" cy="670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879a"/>
                  </a:solidFill>
                  <a:latin typeface="Arial Narrow"/>
                </a:rPr>
                <a:t>development strea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03720" y="2635200"/>
              <a:ext cx="2560680" cy="1440"/>
            </a:xfrm>
            <a:prstGeom prst="line">
              <a:avLst/>
            </a:prstGeom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0" bIns="-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348240" y="329580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220920" y="3695760"/>
            <a:ext cx="3508560" cy="743040"/>
            <a:chOff x="3220920" y="3695760"/>
            <a:chExt cx="3508560" cy="743040"/>
          </a:xfrm>
        </p:grpSpPr>
        <p:grpSp>
          <p:nvGrpSpPr>
            <p:cNvPr id="460" name=""/>
            <p:cNvGrpSpPr/>
            <p:nvPr/>
          </p:nvGrpSpPr>
          <p:grpSpPr>
            <a:xfrm>
              <a:off x="3220920" y="3695760"/>
              <a:ext cx="3183480" cy="512280"/>
              <a:chOff x="3220920" y="3695760"/>
              <a:chExt cx="3183480" cy="512280"/>
            </a:xfrm>
          </p:grpSpPr>
          <p:cxnSp>
            <p:nvCxnSpPr>
              <p:cNvPr id="461" name=""/>
              <p:cNvCxnSpPr>
                <a:stCxn id="452" idx="7"/>
                <a:endCxn id="462" idx="1"/>
              </p:cNvCxnSpPr>
              <p:nvPr/>
            </p:nvCxnSpPr>
            <p:spPr>
              <a:xfrm flipH="1" rot="16200000">
                <a:off x="4793400" y="2483280"/>
                <a:ext cx="38880" cy="3183840"/>
              </a:xfrm>
              <a:prstGeom prst="curvedConnector5">
                <a:avLst>
                  <a:gd name="adj1" fmla="val -695327"/>
                  <a:gd name="adj2" fmla="val 49994"/>
                  <a:gd name="adj3" fmla="val -695327"/>
                </a:avLst>
              </a:prstGeom>
              <a:ln w="38160">
                <a:solidFill>
                  <a:srgbClr val="ff0066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463" name=""/>
              <p:cNvSpPr/>
              <p:nvPr/>
            </p:nvSpPr>
            <p:spPr>
              <a:xfrm>
                <a:off x="3540240" y="3695760"/>
                <a:ext cx="233352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Arial Narrow"/>
                  </a:rPr>
                  <a:t>rebas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6348240" y="4057560"/>
              <a:ext cx="381240" cy="38124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89360" y="4815000"/>
            <a:ext cx="3844800" cy="996480"/>
            <a:chOff x="2889360" y="4815000"/>
            <a:chExt cx="3844800" cy="996480"/>
          </a:xfrm>
        </p:grpSpPr>
        <p:sp>
          <p:nvSpPr>
            <p:cNvPr id="465" name=""/>
            <p:cNvSpPr/>
            <p:nvPr/>
          </p:nvSpPr>
          <p:spPr>
            <a:xfrm>
              <a:off x="6353280" y="481500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3079440" y="5214960"/>
              <a:ext cx="3464280" cy="596520"/>
              <a:chOff x="3079440" y="5214960"/>
              <a:chExt cx="3464280" cy="596520"/>
            </a:xfrm>
          </p:grpSpPr>
          <p:cxnSp>
            <p:nvCxnSpPr>
              <p:cNvPr id="467" name=""/>
              <p:cNvCxnSpPr>
                <a:stCxn id="465" idx="4"/>
                <a:endCxn id="468" idx="4"/>
              </p:cNvCxnSpPr>
              <p:nvPr/>
            </p:nvCxnSpPr>
            <p:spPr>
              <a:xfrm rot="5400000">
                <a:off x="4648320" y="3645720"/>
                <a:ext cx="326160" cy="3464640"/>
              </a:xfrm>
              <a:prstGeom prst="curvedConnector5">
                <a:avLst>
                  <a:gd name="adj1" fmla="val 164309"/>
                  <a:gd name="adj2" fmla="val 49994"/>
                  <a:gd name="adj3" fmla="val 164309"/>
                </a:avLst>
              </a:prstGeom>
              <a:ln w="38160">
                <a:solidFill>
                  <a:srgbClr val="ff66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469" name=""/>
              <p:cNvSpPr/>
              <p:nvPr/>
            </p:nvSpPr>
            <p:spPr>
              <a:xfrm>
                <a:off x="3419640" y="5299200"/>
                <a:ext cx="23619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Arial Narrow"/>
                  </a:rPr>
                  <a:t> 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Arial Narrow"/>
                  </a:rPr>
                  <a:t>Deliver Activ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2889360" y="514044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920880" y="3567240"/>
            <a:ext cx="23335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Recommended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1" name=""/>
          <p:cNvCxnSpPr/>
          <p:nvPr/>
        </p:nvCxnSpPr>
        <p:spPr>
          <a:xfrm flipH="1">
            <a:off x="618840" y="2666520"/>
            <a:ext cx="2272320" cy="3960"/>
          </a:xfrm>
          <a:prstGeom prst="straightConnector1">
            <a:avLst/>
          </a:prstGeom>
          <a:ln w="38160">
            <a:solidFill>
              <a:srgbClr val="33cccc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611280" y="2048040"/>
            <a:ext cx="2413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 be created off of main or previous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ean And Lazy” (Agile) Branching &amp; Merg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3840" y="1106640"/>
            <a:ext cx="8332920" cy="3584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“mainline” branch and avoid additional branch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azy branching when needed to maintain multiple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merge entire integration-branch after each legacy 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-push integration (alw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docking line” when must handoff to separate SCM/build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development branches only for major tasks (subprojects or experimental/prototype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on-branching mechanism to capture change-set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ase frequently (especially before merge-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ean And Lazy” (Agile) Branching &amp; Merging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[continued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3840" y="1063800"/>
            <a:ext cx="8332920" cy="4845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developers work if not on private branc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CM, they just use their developmen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operate like CVS, and work in their “sandbox” view, checking out directly from integration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 changes at stable, incremental milestones during a task (rebasing each time) instead of only at the end of a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rebase if not on a private bran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-spec either uses label, or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LA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base by updating cspec with latest label or current timestamp, and then merge from that into their view (order doesn’t matter 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UC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 uses UCM in a similar agile manner by having a common project called “ucm_main” which provides a place to deliver 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Mike Donati’s RUC2002 paper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ean And Lazy” (Agile) Branching &amp; Merging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43480" y="1022400"/>
            <a:ext cx="1600200" cy="4755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ma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23120" y="1749600"/>
            <a:ext cx="112068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R1 ma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52960" y="329724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52960" y="484020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52960" y="258768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52960" y="403560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95800" y="2543040"/>
            <a:ext cx="133344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sub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0640" y="365436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0" idx="5"/>
            <a:endCxn id="485" idx="2"/>
          </p:cNvCxnSpPr>
          <p:nvPr/>
        </p:nvCxnSpPr>
        <p:spPr>
          <a:xfrm flipH="1" rot="16200000">
            <a:off x="4912200" y="3206520"/>
            <a:ext cx="203760" cy="1073520"/>
          </a:xfrm>
          <a:prstGeom prst="curvedConnector2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</p:cxnSp>
      <p:cxnSp>
        <p:nvCxnSpPr>
          <p:cNvPr id="487" name=""/>
          <p:cNvCxnSpPr>
            <a:stCxn id="485" idx="3"/>
            <a:endCxn id="483" idx="6"/>
          </p:cNvCxnSpPr>
          <p:nvPr/>
        </p:nvCxnSpPr>
        <p:spPr>
          <a:xfrm rot="5400000">
            <a:off x="4975200" y="3575880"/>
            <a:ext cx="227880" cy="1073520"/>
          </a:xfrm>
          <a:prstGeom prst="curvedConnector2">
            <a:avLst/>
          </a:prstGeom>
          <a:ln w="1908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4152960" y="179244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130560" y="1727280"/>
            <a:ext cx="958680" cy="514440"/>
            <a:chOff x="3130560" y="1727280"/>
            <a:chExt cx="958680" cy="514440"/>
          </a:xfrm>
        </p:grpSpPr>
        <p:grpSp>
          <p:nvGrpSpPr>
            <p:cNvPr id="490" name=""/>
            <p:cNvGrpSpPr/>
            <p:nvPr/>
          </p:nvGrpSpPr>
          <p:grpSpPr>
            <a:xfrm>
              <a:off x="3328920" y="1727280"/>
              <a:ext cx="760320" cy="514440"/>
              <a:chOff x="3328920" y="1727280"/>
              <a:chExt cx="760320" cy="514440"/>
            </a:xfrm>
          </p:grpSpPr>
          <p:sp>
            <p:nvSpPr>
              <p:cNvPr id="491" name=""/>
              <p:cNvSpPr/>
              <p:nvPr/>
            </p:nvSpPr>
            <p:spPr>
              <a:xfrm>
                <a:off x="3328920" y="1727280"/>
                <a:ext cx="760320" cy="51444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913560" y="1920240"/>
                <a:ext cx="117000" cy="128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3130560" y="175572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3130560" y="5670720"/>
            <a:ext cx="958680" cy="514080"/>
            <a:chOff x="3130560" y="5670720"/>
            <a:chExt cx="958680" cy="514080"/>
          </a:xfrm>
        </p:grpSpPr>
        <p:grpSp>
          <p:nvGrpSpPr>
            <p:cNvPr id="495" name=""/>
            <p:cNvGrpSpPr/>
            <p:nvPr/>
          </p:nvGrpSpPr>
          <p:grpSpPr>
            <a:xfrm>
              <a:off x="3328920" y="5670720"/>
              <a:ext cx="760320" cy="514080"/>
              <a:chOff x="3328920" y="5670720"/>
              <a:chExt cx="760320" cy="514080"/>
            </a:xfrm>
          </p:grpSpPr>
          <p:sp>
            <p:nvSpPr>
              <p:cNvPr id="496" name=""/>
              <p:cNvSpPr/>
              <p:nvPr/>
            </p:nvSpPr>
            <p:spPr>
              <a:xfrm>
                <a:off x="3328920" y="567072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913560" y="5863320"/>
                <a:ext cx="117000" cy="12816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130560" y="569880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2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6792840" y="249552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543200" y="3470400"/>
            <a:ext cx="2222280" cy="144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211880" y="3198960"/>
            <a:ext cx="831600" cy="514080"/>
            <a:chOff x="7211880" y="3198960"/>
            <a:chExt cx="831600" cy="514080"/>
          </a:xfrm>
        </p:grpSpPr>
        <p:grpSp>
          <p:nvGrpSpPr>
            <p:cNvPr id="502" name=""/>
            <p:cNvGrpSpPr/>
            <p:nvPr/>
          </p:nvGrpSpPr>
          <p:grpSpPr>
            <a:xfrm>
              <a:off x="7211880" y="3198960"/>
              <a:ext cx="760320" cy="514080"/>
              <a:chOff x="7211880" y="3198960"/>
              <a:chExt cx="760320" cy="514080"/>
            </a:xfrm>
          </p:grpSpPr>
          <p:sp>
            <p:nvSpPr>
              <p:cNvPr id="503" name=""/>
              <p:cNvSpPr/>
              <p:nvPr/>
            </p:nvSpPr>
            <p:spPr>
              <a:xfrm flipH="1">
                <a:off x="7211880" y="319896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270200" y="3391560"/>
                <a:ext cx="117000" cy="12816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 flipH="1">
              <a:off x="7229160" y="322704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792840" y="3274920"/>
            <a:ext cx="38124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92840" y="482436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221600" y="4764240"/>
            <a:ext cx="831600" cy="514080"/>
            <a:chOff x="7221600" y="4764240"/>
            <a:chExt cx="831600" cy="514080"/>
          </a:xfrm>
        </p:grpSpPr>
        <p:grpSp>
          <p:nvGrpSpPr>
            <p:cNvPr id="509" name=""/>
            <p:cNvGrpSpPr/>
            <p:nvPr/>
          </p:nvGrpSpPr>
          <p:grpSpPr>
            <a:xfrm>
              <a:off x="7221600" y="4764240"/>
              <a:ext cx="760320" cy="514080"/>
              <a:chOff x="7221600" y="4764240"/>
              <a:chExt cx="760320" cy="514080"/>
            </a:xfrm>
          </p:grpSpPr>
          <p:sp>
            <p:nvSpPr>
              <p:cNvPr id="510" name=""/>
              <p:cNvSpPr/>
              <p:nvPr/>
            </p:nvSpPr>
            <p:spPr>
              <a:xfrm flipH="1">
                <a:off x="7221600" y="476424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7279920" y="4956840"/>
                <a:ext cx="117000" cy="12816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flipH="1">
              <a:off x="7238880" y="4792320"/>
              <a:ext cx="81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R1.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H="1">
            <a:off x="4536720" y="5019840"/>
            <a:ext cx="2203560" cy="144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52960" y="573876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5" name=""/>
          <p:cNvCxnSpPr>
            <a:stCxn id="484" idx="2"/>
            <a:endCxn id="485" idx="0"/>
          </p:cNvCxnSpPr>
          <p:nvPr/>
        </p:nvCxnSpPr>
        <p:spPr>
          <a:xfrm flipH="1">
            <a:off x="5760720" y="3029040"/>
            <a:ext cx="2160" cy="60696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grpSp>
        <p:nvGrpSpPr>
          <p:cNvPr id="516" name=""/>
          <p:cNvGrpSpPr/>
          <p:nvPr/>
        </p:nvGrpSpPr>
        <p:grpSpPr>
          <a:xfrm>
            <a:off x="2328480" y="2147760"/>
            <a:ext cx="1879560" cy="638280"/>
            <a:chOff x="2328480" y="2147760"/>
            <a:chExt cx="1879560" cy="638280"/>
          </a:xfrm>
        </p:grpSpPr>
        <p:sp>
          <p:nvSpPr>
            <p:cNvPr id="517" name=""/>
            <p:cNvSpPr/>
            <p:nvPr/>
          </p:nvSpPr>
          <p:spPr>
            <a:xfrm flipH="1">
              <a:off x="2328120" y="2500200"/>
              <a:ext cx="323640" cy="2858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736d9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18" name=""/>
            <p:cNvCxnSpPr>
              <a:stCxn id="488" idx="3"/>
              <a:endCxn id="517" idx="2"/>
            </p:cNvCxnSpPr>
            <p:nvPr/>
          </p:nvCxnSpPr>
          <p:spPr>
            <a:xfrm rot="5400000">
              <a:off x="3192120" y="1626480"/>
              <a:ext cx="494640" cy="1537200"/>
            </a:xfrm>
            <a:prstGeom prst="curvedConnector2">
              <a:avLst/>
            </a:prstGeom>
            <a:ln w="19080">
              <a:solidFill>
                <a:srgbClr val="ff0066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519" name=""/>
          <p:cNvCxnSpPr>
            <a:stCxn id="517" idx="3"/>
            <a:endCxn id="482" idx="3"/>
          </p:cNvCxnSpPr>
          <p:nvPr/>
        </p:nvCxnSpPr>
        <p:spPr>
          <a:xfrm flipH="1" rot="16200000">
            <a:off x="3321720" y="2045160"/>
            <a:ext cx="170640" cy="1604160"/>
          </a:xfrm>
          <a:prstGeom prst="curvedConnector5">
            <a:avLst>
              <a:gd name="adj1" fmla="val 256025"/>
              <a:gd name="adj2" fmla="val 49988"/>
              <a:gd name="adj3" fmla="val 256025"/>
            </a:avLst>
          </a:prstGeom>
          <a:ln w="19080">
            <a:solidFill>
              <a:srgbClr val="ff6600"/>
            </a:solidFill>
            <a:prstDash val="dash"/>
            <a:miter/>
            <a:tailEnd len="med" type="triangle" w="med"/>
          </a:ln>
        </p:spPr>
      </p:cxnSp>
      <p:cxnSp>
        <p:nvCxnSpPr>
          <p:cNvPr id="520" name=""/>
          <p:cNvCxnSpPr>
            <a:stCxn id="521" idx="3"/>
            <a:endCxn id="483" idx="2"/>
          </p:cNvCxnSpPr>
          <p:nvPr/>
        </p:nvCxnSpPr>
        <p:spPr>
          <a:xfrm flipH="1" rot="16200000">
            <a:off x="3196080" y="3288960"/>
            <a:ext cx="345240" cy="1529640"/>
          </a:xfrm>
          <a:prstGeom prst="curvedConnector2">
            <a:avLst/>
          </a:prstGeom>
          <a:ln w="19080">
            <a:solidFill>
              <a:srgbClr val="ff6600"/>
            </a:solidFill>
            <a:prstDash val="dash"/>
            <a:miter/>
            <a:tailEnd len="med" type="triangle" w="med"/>
          </a:ln>
        </p:spPr>
      </p:cxnSp>
      <p:cxnSp>
        <p:nvCxnSpPr>
          <p:cNvPr id="522" name=""/>
          <p:cNvCxnSpPr>
            <a:stCxn id="523" idx="4"/>
            <a:endCxn id="514" idx="1"/>
          </p:cNvCxnSpPr>
          <p:nvPr/>
        </p:nvCxnSpPr>
        <p:spPr>
          <a:xfrm flipH="1" rot="16200000">
            <a:off x="2954880" y="4522680"/>
            <a:ext cx="788400" cy="1718280"/>
          </a:xfrm>
          <a:prstGeom prst="curvedConnector5">
            <a:avLst>
              <a:gd name="adj1" fmla="val 46550"/>
              <a:gd name="adj2" fmla="val 50000"/>
              <a:gd name="adj3" fmla="val 46550"/>
            </a:avLst>
          </a:prstGeom>
          <a:ln w="19080">
            <a:solidFill>
              <a:srgbClr val="ff6600"/>
            </a:solidFill>
            <a:prstDash val="dash"/>
            <a:miter/>
            <a:tailEnd len="med" type="triangle" w="med"/>
          </a:ln>
        </p:spPr>
      </p:cxnSp>
      <p:grpSp>
        <p:nvGrpSpPr>
          <p:cNvPr id="524" name=""/>
          <p:cNvGrpSpPr/>
          <p:nvPr/>
        </p:nvGrpSpPr>
        <p:grpSpPr>
          <a:xfrm>
            <a:off x="2328840" y="3486600"/>
            <a:ext cx="1804680" cy="418680"/>
            <a:chOff x="2328840" y="3486600"/>
            <a:chExt cx="1804680" cy="418680"/>
          </a:xfrm>
        </p:grpSpPr>
        <p:cxnSp>
          <p:nvCxnSpPr>
            <p:cNvPr id="525" name=""/>
            <p:cNvCxnSpPr>
              <a:stCxn id="480" idx="2"/>
              <a:endCxn id="521" idx="2"/>
            </p:cNvCxnSpPr>
            <p:nvPr/>
          </p:nvCxnSpPr>
          <p:spPr>
            <a:xfrm flipV="1" rot="10800000">
              <a:off x="2671200" y="3486600"/>
              <a:ext cx="1462680" cy="273960"/>
            </a:xfrm>
            <a:prstGeom prst="curvedConnector5">
              <a:avLst>
                <a:gd name="adj1" fmla="val 49926"/>
                <a:gd name="adj2" fmla="val 50000"/>
                <a:gd name="adj3" fmla="val 49926"/>
              </a:avLst>
            </a:prstGeom>
            <a:ln w="19080">
              <a:solidFill>
                <a:srgbClr val="ff0066"/>
              </a:solidFill>
              <a:prstDash val="dash"/>
              <a:miter/>
              <a:tailEnd len="med" type="triangle" w="med"/>
            </a:ln>
          </p:spPr>
        </p:cxnSp>
        <p:sp>
          <p:nvSpPr>
            <p:cNvPr id="521" name=""/>
            <p:cNvSpPr/>
            <p:nvPr/>
          </p:nvSpPr>
          <p:spPr>
            <a:xfrm flipH="1">
              <a:off x="2328840" y="3619440"/>
              <a:ext cx="324000" cy="2858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736d9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328480" y="4379760"/>
            <a:ext cx="1879560" cy="590760"/>
            <a:chOff x="2328480" y="4379760"/>
            <a:chExt cx="1879560" cy="590760"/>
          </a:xfrm>
        </p:grpSpPr>
        <p:cxnSp>
          <p:nvCxnSpPr>
            <p:cNvPr id="527" name=""/>
            <p:cNvCxnSpPr>
              <a:stCxn id="483" idx="3"/>
              <a:endCxn id="523" idx="2"/>
            </p:cNvCxnSpPr>
            <p:nvPr/>
          </p:nvCxnSpPr>
          <p:spPr>
            <a:xfrm rot="5400000">
              <a:off x="3215880" y="3834720"/>
              <a:ext cx="447120" cy="1537200"/>
            </a:xfrm>
            <a:prstGeom prst="curvedConnector2">
              <a:avLst/>
            </a:prstGeom>
            <a:ln w="19080">
              <a:solidFill>
                <a:srgbClr val="ff0066"/>
              </a:solidFill>
              <a:prstDash val="dash"/>
              <a:miter/>
              <a:tailEnd len="med" type="triangle" w="med"/>
            </a:ln>
          </p:spPr>
        </p:cxnSp>
        <p:sp>
          <p:nvSpPr>
            <p:cNvPr id="523" name=""/>
            <p:cNvSpPr/>
            <p:nvPr/>
          </p:nvSpPr>
          <p:spPr>
            <a:xfrm flipH="1">
              <a:off x="2328120" y="4684680"/>
              <a:ext cx="323640" cy="2858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736d9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200240" y="2114640"/>
            <a:ext cx="1447560" cy="1086120"/>
            <a:chOff x="1200240" y="2114640"/>
            <a:chExt cx="1447560" cy="1086120"/>
          </a:xfrm>
        </p:grpSpPr>
        <p:grpSp>
          <p:nvGrpSpPr>
            <p:cNvPr id="529" name=""/>
            <p:cNvGrpSpPr/>
            <p:nvPr/>
          </p:nvGrpSpPr>
          <p:grpSpPr>
            <a:xfrm>
              <a:off x="1695600" y="2114640"/>
              <a:ext cx="571320" cy="704520"/>
              <a:chOff x="1695600" y="2114640"/>
              <a:chExt cx="571320" cy="704520"/>
            </a:xfrm>
          </p:grpSpPr>
          <p:sp>
            <p:nvSpPr>
              <p:cNvPr id="530" name=""/>
              <p:cNvSpPr/>
              <p:nvPr/>
            </p:nvSpPr>
            <p:spPr>
              <a:xfrm>
                <a:off x="1695600" y="2426040"/>
                <a:ext cx="571320" cy="393120"/>
              </a:xfrm>
              <a:prstGeom prst="parallelogram">
                <a:avLst>
                  <a:gd name="adj" fmla="val 36332"/>
                </a:avLst>
              </a:prstGeom>
              <a:solidFill>
                <a:srgbClr val="eaeaea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923840" y="2114640"/>
                <a:ext cx="285840" cy="26208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1200240" y="2743200"/>
              <a:ext cx="1447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33" name=""/>
          <p:cNvCxnSpPr>
            <a:stCxn id="481" idx="2"/>
            <a:endCxn id="523" idx="3"/>
          </p:cNvCxnSpPr>
          <p:nvPr/>
        </p:nvCxnSpPr>
        <p:spPr>
          <a:xfrm rot="10800000">
            <a:off x="2604240" y="4946040"/>
            <a:ext cx="1529640" cy="84600"/>
          </a:xfrm>
          <a:prstGeom prst="curvedConnector2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</p:cxnSp>
      <p:cxnSp>
        <p:nvCxnSpPr>
          <p:cNvPr id="534" name=""/>
          <p:cNvCxnSpPr>
            <a:stCxn id="478" idx="2"/>
            <a:endCxn id="488" idx="0"/>
          </p:cNvCxnSpPr>
          <p:nvPr/>
        </p:nvCxnSpPr>
        <p:spPr>
          <a:xfrm>
            <a:off x="4343040" y="1555920"/>
            <a:ext cx="1080" cy="21816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35" name=""/>
          <p:cNvCxnSpPr>
            <a:stCxn id="488" idx="4"/>
            <a:endCxn id="482" idx="0"/>
          </p:cNvCxnSpPr>
          <p:nvPr/>
        </p:nvCxnSpPr>
        <p:spPr>
          <a:xfrm>
            <a:off x="4343040" y="2192040"/>
            <a:ext cx="1080" cy="3769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36" name=""/>
          <p:cNvCxnSpPr>
            <a:stCxn id="482" idx="4"/>
            <a:endCxn id="480" idx="0"/>
          </p:cNvCxnSpPr>
          <p:nvPr/>
        </p:nvCxnSpPr>
        <p:spPr>
          <a:xfrm>
            <a:off x="4343040" y="2987280"/>
            <a:ext cx="1080" cy="29124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37" name=""/>
          <p:cNvCxnSpPr>
            <a:stCxn id="480" idx="4"/>
            <a:endCxn id="483" idx="0"/>
          </p:cNvCxnSpPr>
          <p:nvPr/>
        </p:nvCxnSpPr>
        <p:spPr>
          <a:xfrm>
            <a:off x="4343040" y="3696840"/>
            <a:ext cx="1080" cy="32004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38" name=""/>
          <p:cNvCxnSpPr>
            <a:stCxn id="483" idx="4"/>
            <a:endCxn id="481" idx="0"/>
          </p:cNvCxnSpPr>
          <p:nvPr/>
        </p:nvCxnSpPr>
        <p:spPr>
          <a:xfrm>
            <a:off x="4343040" y="4435200"/>
            <a:ext cx="1080" cy="38628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39" name=""/>
          <p:cNvCxnSpPr>
            <a:stCxn id="479" idx="2"/>
            <a:endCxn id="499" idx="0"/>
          </p:cNvCxnSpPr>
          <p:nvPr/>
        </p:nvCxnSpPr>
        <p:spPr>
          <a:xfrm>
            <a:off x="6982920" y="2235240"/>
            <a:ext cx="1080" cy="24192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40" name=""/>
          <p:cNvCxnSpPr>
            <a:stCxn id="479" idx="1"/>
            <a:endCxn id="488" idx="6"/>
          </p:cNvCxnSpPr>
          <p:nvPr/>
        </p:nvCxnSpPr>
        <p:spPr>
          <a:xfrm flipH="1">
            <a:off x="4552560" y="1982520"/>
            <a:ext cx="1851840" cy="108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41" name=""/>
          <p:cNvCxnSpPr>
            <a:stCxn id="499" idx="4"/>
            <a:endCxn id="506" idx="0"/>
          </p:cNvCxnSpPr>
          <p:nvPr/>
        </p:nvCxnSpPr>
        <p:spPr>
          <a:xfrm>
            <a:off x="6982920" y="2895120"/>
            <a:ext cx="1080" cy="36108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42" name=""/>
          <p:cNvCxnSpPr>
            <a:stCxn id="506" idx="4"/>
            <a:endCxn id="507" idx="0"/>
          </p:cNvCxnSpPr>
          <p:nvPr/>
        </p:nvCxnSpPr>
        <p:spPr>
          <a:xfrm>
            <a:off x="6982920" y="3674880"/>
            <a:ext cx="1080" cy="113076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43" name=""/>
          <p:cNvCxnSpPr>
            <a:stCxn id="481" idx="4"/>
            <a:endCxn id="514" idx="0"/>
          </p:cNvCxnSpPr>
          <p:nvPr/>
        </p:nvCxnSpPr>
        <p:spPr>
          <a:xfrm>
            <a:off x="4343040" y="5240160"/>
            <a:ext cx="1080" cy="48024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cxnSp>
        <p:nvCxnSpPr>
          <p:cNvPr id="544" name=""/>
          <p:cNvCxnSpPr>
            <a:stCxn id="484" idx="1"/>
            <a:endCxn id="482" idx="6"/>
          </p:cNvCxnSpPr>
          <p:nvPr/>
        </p:nvCxnSpPr>
        <p:spPr>
          <a:xfrm flipH="1">
            <a:off x="4552560" y="2776680"/>
            <a:ext cx="524160" cy="2160"/>
          </a:xfrm>
          <a:prstGeom prst="straightConnector1">
            <a:avLst/>
          </a:prstGeom>
          <a:ln w="38160">
            <a:solidFill>
              <a:srgbClr val="736d94"/>
            </a:solidFill>
            <a:miter/>
          </a:ln>
        </p:spPr>
      </p:cxnSp>
      <p:grpSp>
        <p:nvGrpSpPr>
          <p:cNvPr id="545" name=""/>
          <p:cNvGrpSpPr/>
          <p:nvPr/>
        </p:nvGrpSpPr>
        <p:grpSpPr>
          <a:xfrm>
            <a:off x="1962000" y="1324080"/>
            <a:ext cx="1057320" cy="4446720"/>
            <a:chOff x="1962000" y="1324080"/>
            <a:chExt cx="1057320" cy="4446720"/>
          </a:xfrm>
        </p:grpSpPr>
        <p:sp>
          <p:nvSpPr>
            <p:cNvPr id="546" name=""/>
            <p:cNvSpPr/>
            <p:nvPr/>
          </p:nvSpPr>
          <p:spPr>
            <a:xfrm>
              <a:off x="1962000" y="1324080"/>
              <a:ext cx="1057320" cy="6706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 Narrow"/>
                </a:rPr>
                <a:t>Priva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 Narrow"/>
                </a:rPr>
                <a:t>branc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6" idx="2"/>
              <a:endCxn id="517" idx="0"/>
            </p:cNvCxnSpPr>
            <p:nvPr/>
          </p:nvCxnSpPr>
          <p:spPr>
            <a:xfrm>
              <a:off x="2490480" y="2054160"/>
              <a:ext cx="1080" cy="427680"/>
            </a:xfrm>
            <a:prstGeom prst="straightConnector1">
              <a:avLst/>
            </a:prstGeom>
            <a:ln w="38160">
              <a:solidFill>
                <a:srgbClr val="736d94"/>
              </a:solidFill>
              <a:miter/>
            </a:ln>
          </p:spPr>
        </p:cxnSp>
        <p:cxnSp>
          <p:nvCxnSpPr>
            <p:cNvPr id="548" name=""/>
            <p:cNvCxnSpPr>
              <a:stCxn id="517" idx="4"/>
              <a:endCxn id="521" idx="0"/>
            </p:cNvCxnSpPr>
            <p:nvPr/>
          </p:nvCxnSpPr>
          <p:spPr>
            <a:xfrm>
              <a:off x="2490480" y="2803320"/>
              <a:ext cx="1080" cy="797400"/>
            </a:xfrm>
            <a:prstGeom prst="straightConnector1">
              <a:avLst/>
            </a:prstGeom>
            <a:ln w="38160">
              <a:solidFill>
                <a:srgbClr val="736d94"/>
              </a:solidFill>
              <a:miter/>
            </a:ln>
          </p:spPr>
        </p:cxnSp>
        <p:cxnSp>
          <p:nvCxnSpPr>
            <p:cNvPr id="549" name=""/>
            <p:cNvCxnSpPr>
              <a:stCxn id="521" idx="4"/>
              <a:endCxn id="523" idx="0"/>
            </p:cNvCxnSpPr>
            <p:nvPr/>
          </p:nvCxnSpPr>
          <p:spPr>
            <a:xfrm>
              <a:off x="2490480" y="3922560"/>
              <a:ext cx="1080" cy="743760"/>
            </a:xfrm>
            <a:prstGeom prst="straightConnector1">
              <a:avLst/>
            </a:prstGeom>
            <a:ln w="38160">
              <a:solidFill>
                <a:srgbClr val="736d94"/>
              </a:solidFill>
              <a:miter/>
            </a:ln>
          </p:spPr>
        </p:cxnSp>
        <p:cxnSp>
          <p:nvCxnSpPr>
            <p:cNvPr id="550" name=""/>
            <p:cNvCxnSpPr>
              <a:stCxn id="523" idx="4"/>
            </p:cNvCxnSpPr>
            <p:nvPr/>
          </p:nvCxnSpPr>
          <p:spPr>
            <a:xfrm>
              <a:off x="2490840" y="4987800"/>
              <a:ext cx="2160" cy="783360"/>
            </a:xfrm>
            <a:prstGeom prst="straightConnector1">
              <a:avLst/>
            </a:prstGeom>
            <a:ln w="38160">
              <a:solidFill>
                <a:srgbClr val="736d94"/>
              </a:solidFill>
              <a:prstDash val="dash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3840" y="1112760"/>
            <a:ext cx="8332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 1: Intro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for a branch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 2: 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branching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 3: Solu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branching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 4: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-down into several core "style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 5: Implementation 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, triggers &amp; tools necessary to support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 6: Concl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Short, Fat And Pretty” Branching &amp; Merg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83840" y="960120"/>
            <a:ext cx="8332920" cy="4285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-branche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rging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Pret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branch per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bra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branch per task (change-requ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basing (up-merging) instead of Re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king branch for developer “pre-integration” prior to integrator “pull”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uild until entire CR branch is “fat” me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ntegration branch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isolate a feature until it’s ready to integ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82160" y="45036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Short, Fat And Pretty” Branching &amp; Merging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00000" y="1133640"/>
            <a:ext cx="1752840" cy="80604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95320" y="1990800"/>
            <a:ext cx="0" cy="320040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90760" y="2795760"/>
            <a:ext cx="5040" cy="2566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10000" y="2062080"/>
            <a:ext cx="1301760" cy="670680"/>
          </a:xfrm>
          <a:prstGeom prst="rect">
            <a:avLst/>
          </a:prstGeom>
          <a:solidFill>
            <a:srgbClr val="ffcc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ocking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41480" y="2414520"/>
            <a:ext cx="654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76440" y="222408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248600" y="3357720"/>
            <a:ext cx="4680" cy="107136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76440" y="281448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362640" y="2881440"/>
            <a:ext cx="178128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943280" y="2986200"/>
            <a:ext cx="4419360" cy="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533920" y="3967200"/>
            <a:ext cx="5040" cy="107136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76440" y="342432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3490920"/>
            <a:ext cx="178092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62000" y="3614760"/>
            <a:ext cx="2667240" cy="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00320" y="4759200"/>
            <a:ext cx="3309840" cy="1251360"/>
            <a:chOff x="3100320" y="4759200"/>
            <a:chExt cx="3309840" cy="1251360"/>
          </a:xfrm>
        </p:grpSpPr>
        <p:sp>
          <p:nvSpPr>
            <p:cNvPr id="569" name=""/>
            <p:cNvSpPr/>
            <p:nvPr/>
          </p:nvSpPr>
          <p:spPr>
            <a:xfrm>
              <a:off x="3100320" y="4759200"/>
              <a:ext cx="380880" cy="381240"/>
            </a:xfrm>
            <a:prstGeom prst="ellipse">
              <a:avLst/>
            </a:prstGeom>
            <a:solidFill>
              <a:srgbClr val="ffcccc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3425040" y="5038560"/>
              <a:ext cx="2985120" cy="972000"/>
              <a:chOff x="3425040" y="5038560"/>
              <a:chExt cx="2985120" cy="97200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3425040" y="5103360"/>
                <a:ext cx="2985120" cy="907200"/>
                <a:chOff x="3425040" y="5103360"/>
                <a:chExt cx="2985120" cy="90720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047840" y="5553000"/>
                  <a:ext cx="2362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6600"/>
                      </a:solidFill>
                      <a:latin typeface="Arial Narrow"/>
                    </a:rPr>
                    <a:t>developer push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573" name=""/>
                <p:cNvCxnSpPr>
                  <a:stCxn id="574" idx="3"/>
                  <a:endCxn id="569" idx="5"/>
                </p:cNvCxnSpPr>
                <p:nvPr/>
              </p:nvCxnSpPr>
              <p:spPr>
                <a:xfrm flipV="1" rot="16200000">
                  <a:off x="4276800" y="4251600"/>
                  <a:ext cx="280080" cy="1983240"/>
                </a:xfrm>
                <a:prstGeom prst="curvedConnector5">
                  <a:avLst>
                    <a:gd name="adj1" fmla="val -81724"/>
                    <a:gd name="adj2" fmla="val 50000"/>
                    <a:gd name="adj3" fmla="val -81724"/>
                  </a:avLst>
                </a:prstGeom>
                <a:ln w="38160">
                  <a:solidFill>
                    <a:srgbClr val="ff6600"/>
                  </a:solidFill>
                  <a:prstDash val="dash"/>
                  <a:miter/>
                  <a:tailEnd len="med" type="triangle" w="med"/>
                </a:ln>
              </p:spPr>
            </p:cxnSp>
          </p:grpSp>
          <p:sp>
            <p:nvSpPr>
              <p:cNvPr id="574" name=""/>
              <p:cNvSpPr/>
              <p:nvPr/>
            </p:nvSpPr>
            <p:spPr>
              <a:xfrm>
                <a:off x="5352840" y="5038560"/>
                <a:ext cx="380880" cy="381240"/>
              </a:xfrm>
              <a:prstGeom prst="ellipse">
                <a:avLst/>
              </a:prstGeom>
              <a:solidFill>
                <a:srgbClr val="ccccff"/>
              </a:solidFill>
              <a:ln w="38160">
                <a:solidFill>
                  <a:srgbClr val="736d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3105000" y="4429080"/>
            <a:ext cx="4343400" cy="1542960"/>
            <a:chOff x="3105000" y="4429080"/>
            <a:chExt cx="4343400" cy="1542960"/>
          </a:xfrm>
        </p:grpSpPr>
        <p:sp>
          <p:nvSpPr>
            <p:cNvPr id="576" name=""/>
            <p:cNvSpPr/>
            <p:nvPr/>
          </p:nvSpPr>
          <p:spPr>
            <a:xfrm>
              <a:off x="3105000" y="5362560"/>
              <a:ext cx="380880" cy="380880"/>
            </a:xfrm>
            <a:prstGeom prst="ellipse">
              <a:avLst/>
            </a:prstGeom>
            <a:solidFill>
              <a:srgbClr val="ffcccc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3430080" y="4429080"/>
              <a:ext cx="4018320" cy="1542960"/>
              <a:chOff x="3430080" y="4429080"/>
              <a:chExt cx="4018320" cy="1542960"/>
            </a:xfrm>
          </p:grpSpPr>
          <p:cxnSp>
            <p:nvCxnSpPr>
              <p:cNvPr id="578" name=""/>
              <p:cNvCxnSpPr>
                <a:stCxn id="579" idx="4"/>
                <a:endCxn id="576" idx="5"/>
              </p:cNvCxnSpPr>
              <p:nvPr/>
            </p:nvCxnSpPr>
            <p:spPr>
              <a:xfrm rot="5400000">
                <a:off x="4904640" y="3354120"/>
                <a:ext cx="878760" cy="3828240"/>
              </a:xfrm>
              <a:prstGeom prst="curvedConnector5">
                <a:avLst>
                  <a:gd name="adj1" fmla="val 130163"/>
                  <a:gd name="adj2" fmla="val 49995"/>
                  <a:gd name="adj3" fmla="val 130163"/>
                </a:avLst>
              </a:prstGeom>
              <a:ln w="38160">
                <a:solidFill>
                  <a:srgbClr val="ff66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579" name=""/>
              <p:cNvSpPr/>
              <p:nvPr/>
            </p:nvSpPr>
            <p:spPr>
              <a:xfrm>
                <a:off x="7067520" y="4429080"/>
                <a:ext cx="380880" cy="380880"/>
              </a:xfrm>
              <a:prstGeom prst="ellipse">
                <a:avLst/>
              </a:prstGeom>
              <a:solidFill>
                <a:srgbClr val="ccccff"/>
              </a:solidFill>
              <a:ln w="38160">
                <a:solidFill>
                  <a:srgbClr val="736d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716040" y="2224080"/>
            <a:ext cx="796680" cy="371520"/>
            <a:chOff x="716040" y="2224080"/>
            <a:chExt cx="796680" cy="371520"/>
          </a:xfrm>
        </p:grpSpPr>
        <p:sp>
          <p:nvSpPr>
            <p:cNvPr id="581" name=""/>
            <p:cNvSpPr/>
            <p:nvPr/>
          </p:nvSpPr>
          <p:spPr>
            <a:xfrm>
              <a:off x="716040" y="2224080"/>
              <a:ext cx="796680" cy="3715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0" y="0"/>
                  </a:moveTo>
                  <a:lnTo>
                    <a:pt x="528" y="0"/>
                  </a:lnTo>
                  <a:lnTo>
                    <a:pt x="624" y="96"/>
                  </a:lnTo>
                  <a:lnTo>
                    <a:pt x="624" y="288"/>
                  </a:lnTo>
                  <a:lnTo>
                    <a:pt x="52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328760" y="2363400"/>
              <a:ext cx="122760" cy="9252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617400" y="2197080"/>
            <a:ext cx="79236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Narrow"/>
              </a:rPr>
              <a:t>R1.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25400" y="2789280"/>
            <a:ext cx="797040" cy="371520"/>
            <a:chOff x="725400" y="2789280"/>
            <a:chExt cx="797040" cy="371520"/>
          </a:xfrm>
        </p:grpSpPr>
        <p:sp>
          <p:nvSpPr>
            <p:cNvPr id="585" name=""/>
            <p:cNvSpPr/>
            <p:nvPr/>
          </p:nvSpPr>
          <p:spPr>
            <a:xfrm>
              <a:off x="725400" y="2789280"/>
              <a:ext cx="797040" cy="3715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0" y="0"/>
                  </a:moveTo>
                  <a:lnTo>
                    <a:pt x="528" y="0"/>
                  </a:lnTo>
                  <a:lnTo>
                    <a:pt x="624" y="96"/>
                  </a:lnTo>
                  <a:lnTo>
                    <a:pt x="624" y="288"/>
                  </a:lnTo>
                  <a:lnTo>
                    <a:pt x="52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38480" y="2928600"/>
              <a:ext cx="122760" cy="9252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27120" y="2762280"/>
            <a:ext cx="79200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 Narrow"/>
              </a:rPr>
              <a:t>R1.0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20640" y="3375000"/>
            <a:ext cx="895320" cy="429840"/>
            <a:chOff x="620640" y="3375000"/>
            <a:chExt cx="895320" cy="429840"/>
          </a:xfrm>
        </p:grpSpPr>
        <p:grpSp>
          <p:nvGrpSpPr>
            <p:cNvPr id="589" name=""/>
            <p:cNvGrpSpPr/>
            <p:nvPr/>
          </p:nvGrpSpPr>
          <p:grpSpPr>
            <a:xfrm>
              <a:off x="718920" y="3402000"/>
              <a:ext cx="797040" cy="371520"/>
              <a:chOff x="718920" y="3402000"/>
              <a:chExt cx="797040" cy="371520"/>
            </a:xfrm>
          </p:grpSpPr>
          <p:sp>
            <p:nvSpPr>
              <p:cNvPr id="590" name=""/>
              <p:cNvSpPr/>
              <p:nvPr/>
            </p:nvSpPr>
            <p:spPr>
              <a:xfrm>
                <a:off x="718920" y="3402000"/>
                <a:ext cx="797040" cy="37152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32000" y="3541320"/>
                <a:ext cx="122760" cy="92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620640" y="3375000"/>
              <a:ext cx="79200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 Narrow"/>
                </a:rPr>
                <a:t>R1.0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32680" y="3425760"/>
            <a:ext cx="1447560" cy="1108440"/>
            <a:chOff x="7132680" y="3425760"/>
            <a:chExt cx="1447560" cy="1108440"/>
          </a:xfrm>
        </p:grpSpPr>
        <p:grpSp>
          <p:nvGrpSpPr>
            <p:cNvPr id="594" name=""/>
            <p:cNvGrpSpPr/>
            <p:nvPr/>
          </p:nvGrpSpPr>
          <p:grpSpPr>
            <a:xfrm>
              <a:off x="7529400" y="3425760"/>
              <a:ext cx="660600" cy="736200"/>
              <a:chOff x="7529400" y="3425760"/>
              <a:chExt cx="660600" cy="736200"/>
            </a:xfrm>
          </p:grpSpPr>
          <p:sp>
            <p:nvSpPr>
              <p:cNvPr id="595" name=""/>
              <p:cNvSpPr/>
              <p:nvPr/>
            </p:nvSpPr>
            <p:spPr>
              <a:xfrm>
                <a:off x="7529400" y="3750840"/>
                <a:ext cx="660600" cy="411120"/>
              </a:xfrm>
              <a:prstGeom prst="parallelogram">
                <a:avLst>
                  <a:gd name="adj" fmla="val 40171"/>
                </a:avLst>
              </a:prstGeom>
              <a:solidFill>
                <a:srgbClr val="eaeaea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793280" y="3425760"/>
                <a:ext cx="330480" cy="27360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7132680" y="4076640"/>
              <a:ext cx="1447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 Narrow"/>
                </a:rPr>
                <a:t>Develope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427720" y="4043520"/>
            <a:ext cx="1447560" cy="1100160"/>
            <a:chOff x="5427720" y="4043520"/>
            <a:chExt cx="1447560" cy="1100160"/>
          </a:xfrm>
        </p:grpSpPr>
        <p:grpSp>
          <p:nvGrpSpPr>
            <p:cNvPr id="599" name=""/>
            <p:cNvGrpSpPr/>
            <p:nvPr/>
          </p:nvGrpSpPr>
          <p:grpSpPr>
            <a:xfrm>
              <a:off x="5888160" y="4043520"/>
              <a:ext cx="644400" cy="718560"/>
              <a:chOff x="5888160" y="4043520"/>
              <a:chExt cx="644400" cy="718560"/>
            </a:xfrm>
          </p:grpSpPr>
          <p:sp>
            <p:nvSpPr>
              <p:cNvPr id="600" name=""/>
              <p:cNvSpPr/>
              <p:nvPr/>
            </p:nvSpPr>
            <p:spPr>
              <a:xfrm>
                <a:off x="5888160" y="4361040"/>
                <a:ext cx="644400" cy="401040"/>
              </a:xfrm>
              <a:prstGeom prst="parallelogram">
                <a:avLst>
                  <a:gd name="adj" fmla="val 40171"/>
                </a:avLst>
              </a:prstGeom>
              <a:solidFill>
                <a:srgbClr val="eaeaea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145560" y="4043520"/>
                <a:ext cx="322200" cy="26712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427720" y="4686120"/>
              <a:ext cx="1447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914120" y="3223080"/>
            <a:ext cx="5529600" cy="1401480"/>
            <a:chOff x="1914120" y="3223080"/>
            <a:chExt cx="5529600" cy="1401480"/>
          </a:xfrm>
        </p:grpSpPr>
        <p:cxnSp>
          <p:nvCxnSpPr>
            <p:cNvPr id="604" name=""/>
            <p:cNvCxnSpPr>
              <a:stCxn id="605" idx="7"/>
              <a:endCxn id="606" idx="1"/>
            </p:cNvCxnSpPr>
            <p:nvPr/>
          </p:nvCxnSpPr>
          <p:spPr>
            <a:xfrm flipH="1" rot="16200000">
              <a:off x="3614400" y="2489760"/>
              <a:ext cx="89640" cy="3489840"/>
            </a:xfrm>
            <a:prstGeom prst="curvedConnector5">
              <a:avLst>
                <a:gd name="adj1" fmla="val -297983"/>
                <a:gd name="adj2" fmla="val 49994"/>
                <a:gd name="adj3" fmla="val -297983"/>
              </a:avLst>
            </a:prstGeom>
            <a:ln w="38160">
              <a:solidFill>
                <a:srgbClr val="0099cc"/>
              </a:solidFill>
              <a:prstDash val="sysDot"/>
              <a:miter/>
              <a:tailEnd len="med" type="triangle" w="med"/>
            </a:ln>
          </p:spPr>
        </p:cxnSp>
        <p:grpSp>
          <p:nvGrpSpPr>
            <p:cNvPr id="607" name=""/>
            <p:cNvGrpSpPr/>
            <p:nvPr/>
          </p:nvGrpSpPr>
          <p:grpSpPr>
            <a:xfrm>
              <a:off x="1914120" y="3223080"/>
              <a:ext cx="5529600" cy="1401480"/>
              <a:chOff x="1914120" y="3223080"/>
              <a:chExt cx="5529600" cy="1401480"/>
            </a:xfrm>
          </p:grpSpPr>
          <p:sp>
            <p:nvSpPr>
              <p:cNvPr id="606" name=""/>
              <p:cNvSpPr/>
              <p:nvPr/>
            </p:nvSpPr>
            <p:spPr>
              <a:xfrm>
                <a:off x="5348160" y="4243320"/>
                <a:ext cx="380880" cy="381240"/>
              </a:xfrm>
              <a:prstGeom prst="ellipse">
                <a:avLst/>
              </a:prstGeom>
              <a:solidFill>
                <a:srgbClr val="ccccff"/>
              </a:solidFill>
              <a:ln w="38160">
                <a:solidFill>
                  <a:srgbClr val="736d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62480" y="3633840"/>
                <a:ext cx="381240" cy="380880"/>
              </a:xfrm>
              <a:prstGeom prst="ellipse">
                <a:avLst/>
              </a:prstGeom>
              <a:solidFill>
                <a:srgbClr val="ccccff"/>
              </a:solidFill>
              <a:ln w="38160">
                <a:solidFill>
                  <a:srgbClr val="736d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1914120" y="3223080"/>
                <a:ext cx="5204160" cy="967680"/>
                <a:chOff x="1914120" y="3223080"/>
                <a:chExt cx="5204160" cy="967680"/>
              </a:xfrm>
            </p:grpSpPr>
            <p:cxnSp>
              <p:nvCxnSpPr>
                <p:cNvPr id="610" name=""/>
                <p:cNvCxnSpPr>
                  <a:stCxn id="605" idx="7"/>
                  <a:endCxn id="608" idx="1"/>
                </p:cNvCxnSpPr>
                <p:nvPr/>
              </p:nvCxnSpPr>
              <p:spPr>
                <a:xfrm flipH="1" flipV="1" rot="5400000">
                  <a:off x="4255560" y="1328040"/>
                  <a:ext cx="521640" cy="5204520"/>
                </a:xfrm>
                <a:prstGeom prst="curvedConnector5">
                  <a:avLst>
                    <a:gd name="adj1" fmla="val 185635"/>
                    <a:gd name="adj2" fmla="val 50000"/>
                    <a:gd name="adj3" fmla="val 185635"/>
                  </a:avLst>
                </a:prstGeom>
                <a:ln cap="rnd" w="38160">
                  <a:solidFill>
                    <a:srgbClr val="0099cc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</p:cxnSp>
            <p:sp>
              <p:nvSpPr>
                <p:cNvPr id="611" name=""/>
                <p:cNvSpPr/>
                <p:nvPr/>
              </p:nvSpPr>
              <p:spPr>
                <a:xfrm>
                  <a:off x="1933200" y="3659040"/>
                  <a:ext cx="120996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99cc"/>
                      </a:solidFill>
                      <a:latin typeface="Arial Narrow"/>
                    </a:rPr>
                    <a:t>rebase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2" name=""/>
          <p:cNvSpPr/>
          <p:nvPr/>
        </p:nvSpPr>
        <p:spPr>
          <a:xfrm>
            <a:off x="3095640" y="4125960"/>
            <a:ext cx="380880" cy="380880"/>
          </a:xfrm>
          <a:prstGeom prst="ellipse">
            <a:avLst/>
          </a:prstGeom>
          <a:solidFill>
            <a:srgbClr val="ffcc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981080" y="4879800"/>
            <a:ext cx="1281240" cy="1069200"/>
            <a:chOff x="1981080" y="4879800"/>
            <a:chExt cx="1281240" cy="1069200"/>
          </a:xfrm>
        </p:grpSpPr>
        <p:grpSp>
          <p:nvGrpSpPr>
            <p:cNvPr id="614" name=""/>
            <p:cNvGrpSpPr/>
            <p:nvPr/>
          </p:nvGrpSpPr>
          <p:grpSpPr>
            <a:xfrm>
              <a:off x="2346120" y="4879800"/>
              <a:ext cx="615240" cy="691920"/>
              <a:chOff x="2346120" y="4879800"/>
              <a:chExt cx="615240" cy="691920"/>
            </a:xfrm>
          </p:grpSpPr>
          <p:sp>
            <p:nvSpPr>
              <p:cNvPr id="615" name=""/>
              <p:cNvSpPr/>
              <p:nvPr/>
            </p:nvSpPr>
            <p:spPr>
              <a:xfrm>
                <a:off x="2346120" y="5185440"/>
                <a:ext cx="615240" cy="386280"/>
              </a:xfrm>
              <a:prstGeom prst="parallelogram">
                <a:avLst>
                  <a:gd name="adj" fmla="val 39818"/>
                </a:avLst>
              </a:prstGeom>
              <a:solidFill>
                <a:srgbClr val="ff9999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2000" y="4879800"/>
                <a:ext cx="307800" cy="257400"/>
              </a:xfrm>
              <a:prstGeom prst="ellipse">
                <a:avLst/>
              </a:prstGeom>
              <a:solidFill>
                <a:srgbClr val="ff9999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080" bIns="9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1981080" y="5491440"/>
              <a:ext cx="1281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Integrat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77880" y="5167440"/>
            <a:ext cx="2617920" cy="804600"/>
            <a:chOff x="677880" y="5167440"/>
            <a:chExt cx="2617920" cy="804600"/>
          </a:xfrm>
        </p:grpSpPr>
        <p:grpSp>
          <p:nvGrpSpPr>
            <p:cNvPr id="619" name=""/>
            <p:cNvGrpSpPr/>
            <p:nvPr/>
          </p:nvGrpSpPr>
          <p:grpSpPr>
            <a:xfrm>
              <a:off x="677880" y="5167440"/>
              <a:ext cx="828720" cy="429840"/>
              <a:chOff x="677880" y="5167440"/>
              <a:chExt cx="828720" cy="42984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768600" y="5194440"/>
                <a:ext cx="738000" cy="371160"/>
                <a:chOff x="768600" y="5194440"/>
                <a:chExt cx="738000" cy="371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768600" y="5194440"/>
                  <a:ext cx="738000" cy="371160"/>
                </a:xfrm>
                <a:custGeom>
                  <a:avLst/>
                  <a:gdLst/>
                  <a:ahLst/>
                  <a:rect l="l" t="t" r="r" b="b"/>
                  <a:pathLst>
                    <a:path w="624" h="384">
                      <a:moveTo>
                        <a:pt x="0" y="0"/>
                      </a:moveTo>
                      <a:lnTo>
                        <a:pt x="528" y="0"/>
                      </a:lnTo>
                      <a:lnTo>
                        <a:pt x="624" y="96"/>
                      </a:lnTo>
                      <a:lnTo>
                        <a:pt x="624" y="288"/>
                      </a:lnTo>
                      <a:lnTo>
                        <a:pt x="528" y="384"/>
                      </a:lnTo>
                      <a:lnTo>
                        <a:pt x="0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1908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336320" y="5333400"/>
                  <a:ext cx="113400" cy="9252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677880" y="5167440"/>
                <a:ext cx="733680" cy="42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3300"/>
                    </a:solidFill>
                    <a:latin typeface="Arial Narrow"/>
                  </a:rPr>
                  <a:t>R1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24" name=""/>
            <p:cNvCxnSpPr/>
            <p:nvPr/>
          </p:nvCxnSpPr>
          <p:spPr>
            <a:xfrm flipV="1" rot="16200000">
              <a:off x="2445480" y="4911480"/>
              <a:ext cx="167040" cy="1534320"/>
            </a:xfrm>
            <a:prstGeom prst="curvedConnector5">
              <a:avLst>
                <a:gd name="adj1" fmla="val -125917"/>
                <a:gd name="adj2" fmla="val 49988"/>
                <a:gd name="adj3" fmla="val -125917"/>
              </a:avLst>
            </a:prstGeom>
            <a:ln w="38160">
              <a:solidFill>
                <a:srgbClr val="99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25" name=""/>
            <p:cNvSpPr/>
            <p:nvPr/>
          </p:nvSpPr>
          <p:spPr>
            <a:xfrm>
              <a:off x="1571760" y="519588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96880" y="4148280"/>
            <a:ext cx="3041280" cy="2210040"/>
            <a:chOff x="596880" y="4148280"/>
            <a:chExt cx="3041280" cy="2210040"/>
          </a:xfrm>
        </p:grpSpPr>
        <p:sp>
          <p:nvSpPr>
            <p:cNvPr id="605" name=""/>
            <p:cNvSpPr/>
            <p:nvPr/>
          </p:nvSpPr>
          <p:spPr>
            <a:xfrm>
              <a:off x="1589040" y="4154400"/>
              <a:ext cx="380520" cy="38124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596880" y="4148280"/>
              <a:ext cx="911160" cy="429840"/>
              <a:chOff x="596880" y="4148280"/>
              <a:chExt cx="911160" cy="42984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711360" y="4159080"/>
                <a:ext cx="796680" cy="371520"/>
                <a:chOff x="711360" y="4159080"/>
                <a:chExt cx="796680" cy="371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711360" y="4159080"/>
                  <a:ext cx="796680" cy="371520"/>
                </a:xfrm>
                <a:custGeom>
                  <a:avLst/>
                  <a:gdLst/>
                  <a:ahLst/>
                  <a:rect l="l" t="t" r="r" b="b"/>
                  <a:pathLst>
                    <a:path w="624" h="384">
                      <a:moveTo>
                        <a:pt x="0" y="0"/>
                      </a:moveTo>
                      <a:lnTo>
                        <a:pt x="528" y="0"/>
                      </a:lnTo>
                      <a:lnTo>
                        <a:pt x="624" y="96"/>
                      </a:lnTo>
                      <a:lnTo>
                        <a:pt x="624" y="288"/>
                      </a:lnTo>
                      <a:lnTo>
                        <a:pt x="528" y="384"/>
                      </a:lnTo>
                      <a:lnTo>
                        <a:pt x="0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1908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24080" y="4298400"/>
                  <a:ext cx="122760" cy="9252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596880" y="4148280"/>
                <a:ext cx="792360" cy="42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66"/>
                    </a:solidFill>
                    <a:latin typeface="Arial Narrow"/>
                  </a:rPr>
                  <a:t>R1.0.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1276200" y="5900760"/>
              <a:ext cx="2361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integrator pu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3" name=""/>
            <p:cNvCxnSpPr/>
            <p:nvPr/>
          </p:nvCxnSpPr>
          <p:spPr>
            <a:xfrm rot="5400000">
              <a:off x="2517840" y="3866400"/>
              <a:ext cx="29160" cy="1236960"/>
            </a:xfrm>
            <a:prstGeom prst="curvedConnector5">
              <a:avLst>
                <a:gd name="adj1" fmla="val 1027500"/>
                <a:gd name="adj2" fmla="val 49985"/>
                <a:gd name="adj3" fmla="val 1027500"/>
              </a:avLst>
            </a:prstGeom>
            <a:ln w="38160">
              <a:solidFill>
                <a:srgbClr val="99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634" name=""/>
          <p:cNvSpPr/>
          <p:nvPr/>
        </p:nvSpPr>
        <p:spPr>
          <a:xfrm>
            <a:off x="5829480" y="1179360"/>
            <a:ext cx="2138040" cy="871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lso rebase from the docking branch for the most recent 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ong, Lean And Ugly” Branching &amp; Merg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2560" y="966960"/>
            <a:ext cx="84042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-branche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rging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U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3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branch per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3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bra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3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branch per task (change-requ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3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basing (up-merging) instead of Rebra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3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or pull (pull-push integration “task” bran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3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merging” (with “lazy mainlining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ete the first build, builder runs several findmerge commands to deter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with latest baseline, requiring a re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between CR bran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merges only those to the build int-bran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brtype and all CR brtypes are included in the config-spec in order to build against last official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ong, Lean And Ugly” Branching &amp; Merging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3320" y="1258920"/>
            <a:ext cx="2122560" cy="6501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Release 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776240" y="1938240"/>
            <a:ext cx="0" cy="320040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16880" y="2692440"/>
            <a:ext cx="660240" cy="736200"/>
            <a:chOff x="7616880" y="2692440"/>
            <a:chExt cx="660240" cy="736200"/>
          </a:xfrm>
        </p:grpSpPr>
        <p:sp>
          <p:nvSpPr>
            <p:cNvPr id="641" name=""/>
            <p:cNvSpPr/>
            <p:nvPr/>
          </p:nvSpPr>
          <p:spPr>
            <a:xfrm>
              <a:off x="7616880" y="3017520"/>
              <a:ext cx="660240" cy="411120"/>
            </a:xfrm>
            <a:prstGeom prst="parallelogram">
              <a:avLst>
                <a:gd name="adj" fmla="val 40149"/>
              </a:avLst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880760" y="2692440"/>
              <a:ext cx="330120" cy="273600"/>
            </a:xfrm>
            <a:prstGeom prst="ellipse">
              <a:avLst/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7219800" y="3343320"/>
            <a:ext cx="144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Develop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975280" y="3798720"/>
            <a:ext cx="644760" cy="718920"/>
            <a:chOff x="5975280" y="3798720"/>
            <a:chExt cx="644760" cy="718920"/>
          </a:xfrm>
        </p:grpSpPr>
        <p:sp>
          <p:nvSpPr>
            <p:cNvPr id="645" name=""/>
            <p:cNvSpPr/>
            <p:nvPr/>
          </p:nvSpPr>
          <p:spPr>
            <a:xfrm>
              <a:off x="5975280" y="4116240"/>
              <a:ext cx="644760" cy="401400"/>
            </a:xfrm>
            <a:prstGeom prst="parallelogram">
              <a:avLst>
                <a:gd name="adj" fmla="val 40157"/>
              </a:avLst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33040" y="3798720"/>
              <a:ext cx="322560" cy="267480"/>
            </a:xfrm>
            <a:prstGeom prst="ellipse">
              <a:avLst/>
            </a:prstGeom>
            <a:solidFill>
              <a:srgbClr val="eaeae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5514840" y="4441680"/>
            <a:ext cx="144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Develo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57360" y="220968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211880" y="2552760"/>
            <a:ext cx="22320" cy="113832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296040" y="2111400"/>
            <a:ext cx="178128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38640" y="2147760"/>
            <a:ext cx="1154160" cy="19872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57360" y="276228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14840" y="3197160"/>
            <a:ext cx="5040" cy="107172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9240" y="2720880"/>
            <a:ext cx="178092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46160" y="2952720"/>
            <a:ext cx="2667240" cy="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57360" y="337176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24200" y="4238640"/>
            <a:ext cx="4680" cy="10717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68480" y="3616200"/>
            <a:ext cx="1733760" cy="621720"/>
          </a:xfrm>
          <a:prstGeom prst="rect">
            <a:avLst/>
          </a:prstGeom>
          <a:solidFill>
            <a:srgbClr val="ffcc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integration task (build) 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52640" y="3562200"/>
            <a:ext cx="901800" cy="333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79560" y="4154400"/>
            <a:ext cx="1281240" cy="1069200"/>
            <a:chOff x="1879560" y="4154400"/>
            <a:chExt cx="1281240" cy="1069200"/>
          </a:xfrm>
        </p:grpSpPr>
        <p:grpSp>
          <p:nvGrpSpPr>
            <p:cNvPr id="661" name=""/>
            <p:cNvGrpSpPr/>
            <p:nvPr/>
          </p:nvGrpSpPr>
          <p:grpSpPr>
            <a:xfrm>
              <a:off x="2244600" y="4154400"/>
              <a:ext cx="615240" cy="691920"/>
              <a:chOff x="2244600" y="4154400"/>
              <a:chExt cx="615240" cy="691920"/>
            </a:xfrm>
          </p:grpSpPr>
          <p:sp>
            <p:nvSpPr>
              <p:cNvPr id="662" name=""/>
              <p:cNvSpPr/>
              <p:nvPr/>
            </p:nvSpPr>
            <p:spPr>
              <a:xfrm>
                <a:off x="2244600" y="4460040"/>
                <a:ext cx="615240" cy="386280"/>
              </a:xfrm>
              <a:prstGeom prst="parallelogram">
                <a:avLst>
                  <a:gd name="adj" fmla="val 39818"/>
                </a:avLst>
              </a:prstGeom>
              <a:solidFill>
                <a:srgbClr val="ff9999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490480" y="4154400"/>
                <a:ext cx="307800" cy="257400"/>
              </a:xfrm>
              <a:prstGeom prst="ellipse">
                <a:avLst/>
              </a:prstGeom>
              <a:solidFill>
                <a:srgbClr val="ff9999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080" bIns="9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879560" y="4766040"/>
              <a:ext cx="1281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Integrat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543480" y="4035240"/>
            <a:ext cx="3560400" cy="1884240"/>
            <a:chOff x="3543480" y="4035240"/>
            <a:chExt cx="3560400" cy="1884240"/>
          </a:xfrm>
        </p:grpSpPr>
        <p:sp>
          <p:nvSpPr>
            <p:cNvPr id="666" name=""/>
            <p:cNvSpPr/>
            <p:nvPr/>
          </p:nvSpPr>
          <p:spPr>
            <a:xfrm>
              <a:off x="3543480" y="5310360"/>
              <a:ext cx="380880" cy="380880"/>
            </a:xfrm>
            <a:prstGeom prst="ellipse">
              <a:avLst/>
            </a:prstGeom>
            <a:solidFill>
              <a:srgbClr val="ffcccc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67" name=""/>
            <p:cNvCxnSpPr>
              <a:stCxn id="668" idx="3"/>
              <a:endCxn id="666" idx="5"/>
            </p:cNvCxnSpPr>
            <p:nvPr/>
          </p:nvCxnSpPr>
          <p:spPr>
            <a:xfrm rot="5400000">
              <a:off x="4676400" y="3227040"/>
              <a:ext cx="1619640" cy="3236040"/>
            </a:xfrm>
            <a:prstGeom prst="curvedConnector5">
              <a:avLst>
                <a:gd name="adj1" fmla="val 116362"/>
                <a:gd name="adj2" fmla="val 50000"/>
                <a:gd name="adj3" fmla="val 116362"/>
              </a:avLst>
            </a:prstGeom>
            <a:ln w="38160">
              <a:solidFill>
                <a:srgbClr val="ff66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669" name=""/>
          <p:cNvSpPr/>
          <p:nvPr/>
        </p:nvSpPr>
        <p:spPr>
          <a:xfrm>
            <a:off x="5329080" y="3505320"/>
            <a:ext cx="38124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043760" y="2895480"/>
            <a:ext cx="380880" cy="3812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538440" y="4514760"/>
            <a:ext cx="3644640" cy="1065960"/>
            <a:chOff x="3538440" y="4514760"/>
            <a:chExt cx="3644640" cy="1065960"/>
          </a:xfrm>
        </p:grpSpPr>
        <p:sp>
          <p:nvSpPr>
            <p:cNvPr id="672" name=""/>
            <p:cNvSpPr/>
            <p:nvPr/>
          </p:nvSpPr>
          <p:spPr>
            <a:xfrm>
              <a:off x="3538440" y="4514760"/>
              <a:ext cx="380880" cy="381240"/>
            </a:xfrm>
            <a:prstGeom prst="ellipse">
              <a:avLst/>
            </a:prstGeom>
            <a:solidFill>
              <a:srgbClr val="ffcccc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3732120" y="4628880"/>
              <a:ext cx="3450960" cy="951840"/>
              <a:chOff x="3732120" y="4628880"/>
              <a:chExt cx="3450960" cy="951840"/>
            </a:xfrm>
          </p:grpSpPr>
          <p:sp>
            <p:nvSpPr>
              <p:cNvPr id="674" name=""/>
              <p:cNvSpPr/>
              <p:nvPr/>
            </p:nvSpPr>
            <p:spPr>
              <a:xfrm>
                <a:off x="3732120" y="4910040"/>
                <a:ext cx="34509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6600"/>
                    </a:solidFill>
                    <a:latin typeface="Arial Narrow"/>
                  </a:rPr>
                  <a:t>Integrator pulls ONLY conflicting files to build branc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675" name=""/>
              <p:cNvCxnSpPr>
                <a:stCxn id="676" idx="3"/>
                <a:endCxn id="672" idx="5"/>
              </p:cNvCxnSpPr>
              <p:nvPr/>
            </p:nvCxnSpPr>
            <p:spPr>
              <a:xfrm rot="5400000">
                <a:off x="4502880" y="3989160"/>
                <a:ext cx="230760" cy="1510200"/>
              </a:xfrm>
              <a:prstGeom prst="curvedConnector5">
                <a:avLst>
                  <a:gd name="adj1" fmla="val 150312"/>
                  <a:gd name="adj2" fmla="val 50000"/>
                  <a:gd name="adj3" fmla="val 150312"/>
                </a:avLst>
              </a:prstGeom>
              <a:ln w="38160">
                <a:solidFill>
                  <a:srgbClr val="ff6600"/>
                </a:solidFill>
                <a:prstDash val="dash"/>
                <a:miter/>
                <a:tailEnd len="med" type="triangle" w="med"/>
              </a:ln>
            </p:spPr>
          </p:cxnSp>
        </p:grpSp>
      </p:grpSp>
      <p:sp>
        <p:nvSpPr>
          <p:cNvPr id="677" name=""/>
          <p:cNvSpPr/>
          <p:nvPr/>
        </p:nvSpPr>
        <p:spPr>
          <a:xfrm>
            <a:off x="4962600" y="1633680"/>
            <a:ext cx="3240" cy="44280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52960" y="1160640"/>
            <a:ext cx="1665360" cy="42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 Narrow"/>
              </a:rPr>
              <a:t>privat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49840" y="1951200"/>
            <a:ext cx="380880" cy="380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1916280" y="1361880"/>
            <a:ext cx="2246040" cy="1019160"/>
          </a:xfrm>
          <a:prstGeom prst="line">
            <a:avLst/>
          </a:prstGeom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882440" y="3013200"/>
            <a:ext cx="5547240" cy="1652400"/>
            <a:chOff x="1882440" y="3013200"/>
            <a:chExt cx="5547240" cy="1652400"/>
          </a:xfrm>
        </p:grpSpPr>
        <p:sp>
          <p:nvSpPr>
            <p:cNvPr id="676" name=""/>
            <p:cNvSpPr/>
            <p:nvPr/>
          </p:nvSpPr>
          <p:spPr>
            <a:xfrm>
              <a:off x="5318280" y="428472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48800" y="369108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1882440" y="3013200"/>
              <a:ext cx="5221800" cy="1307160"/>
              <a:chOff x="1882440" y="3013200"/>
              <a:chExt cx="5221800" cy="1307160"/>
            </a:xfrm>
          </p:grpSpPr>
          <p:cxnSp>
            <p:nvCxnSpPr>
              <p:cNvPr id="683" name=""/>
              <p:cNvCxnSpPr>
                <a:stCxn id="656" idx="7"/>
                <a:endCxn id="676" idx="1"/>
              </p:cNvCxnSpPr>
              <p:nvPr/>
            </p:nvCxnSpPr>
            <p:spPr>
              <a:xfrm flipH="1" rot="16200000">
                <a:off x="3171600" y="2118240"/>
                <a:ext cx="913320" cy="3491640"/>
              </a:xfrm>
              <a:prstGeom prst="curvedConnector5">
                <a:avLst>
                  <a:gd name="adj1" fmla="val -7097"/>
                  <a:gd name="adj2" fmla="val 50000"/>
                  <a:gd name="adj3" fmla="val -7097"/>
                </a:avLst>
              </a:prstGeom>
              <a:ln w="38160">
                <a:solidFill>
                  <a:srgbClr val="0099cc"/>
                </a:solidFill>
                <a:prstDash val="sysDot"/>
                <a:miter/>
                <a:tailEnd len="med" type="triangle" w="med"/>
              </a:ln>
            </p:spPr>
          </p:cxnSp>
          <p:cxnSp>
            <p:nvCxnSpPr>
              <p:cNvPr id="684" name=""/>
              <p:cNvCxnSpPr>
                <a:stCxn id="656" idx="7"/>
                <a:endCxn id="668" idx="1"/>
              </p:cNvCxnSpPr>
              <p:nvPr/>
            </p:nvCxnSpPr>
            <p:spPr>
              <a:xfrm flipH="1" rot="16200000">
                <a:off x="4334040" y="957240"/>
                <a:ext cx="319680" cy="5221800"/>
              </a:xfrm>
              <a:prstGeom prst="curvedConnector5">
                <a:avLst>
                  <a:gd name="adj1" fmla="val -25366"/>
                  <a:gd name="adj2" fmla="val 50000"/>
                  <a:gd name="adj3" fmla="val -25366"/>
                </a:avLst>
              </a:prstGeom>
              <a:ln cap="rnd" w="38160">
                <a:solidFill>
                  <a:srgbClr val="0099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sp>
            <p:nvSpPr>
              <p:cNvPr id="685" name=""/>
              <p:cNvSpPr/>
              <p:nvPr/>
            </p:nvSpPr>
            <p:spPr>
              <a:xfrm>
                <a:off x="2754360" y="3013200"/>
                <a:ext cx="12096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cc"/>
                    </a:solidFill>
                    <a:latin typeface="Arial Narrow"/>
                  </a:rPr>
                  <a:t>rebas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681120" y="2206800"/>
            <a:ext cx="796680" cy="371160"/>
            <a:chOff x="681120" y="2206800"/>
            <a:chExt cx="796680" cy="371160"/>
          </a:xfrm>
        </p:grpSpPr>
        <p:sp>
          <p:nvSpPr>
            <p:cNvPr id="687" name=""/>
            <p:cNvSpPr/>
            <p:nvPr/>
          </p:nvSpPr>
          <p:spPr>
            <a:xfrm>
              <a:off x="681120" y="2206800"/>
              <a:ext cx="796680" cy="3711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0" y="0"/>
                  </a:moveTo>
                  <a:lnTo>
                    <a:pt x="528" y="0"/>
                  </a:lnTo>
                  <a:lnTo>
                    <a:pt x="624" y="96"/>
                  </a:lnTo>
                  <a:lnTo>
                    <a:pt x="624" y="288"/>
                  </a:lnTo>
                  <a:lnTo>
                    <a:pt x="52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93840" y="2345760"/>
              <a:ext cx="122760" cy="9252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582480" y="2179800"/>
            <a:ext cx="79236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Narrow"/>
              </a:rPr>
              <a:t>R1.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690480" y="2771640"/>
            <a:ext cx="797040" cy="371520"/>
            <a:chOff x="690480" y="2771640"/>
            <a:chExt cx="797040" cy="371520"/>
          </a:xfrm>
        </p:grpSpPr>
        <p:sp>
          <p:nvSpPr>
            <p:cNvPr id="691" name=""/>
            <p:cNvSpPr/>
            <p:nvPr/>
          </p:nvSpPr>
          <p:spPr>
            <a:xfrm>
              <a:off x="690480" y="2771640"/>
              <a:ext cx="797040" cy="3715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0" y="0"/>
                  </a:moveTo>
                  <a:lnTo>
                    <a:pt x="528" y="0"/>
                  </a:lnTo>
                  <a:lnTo>
                    <a:pt x="624" y="96"/>
                  </a:lnTo>
                  <a:lnTo>
                    <a:pt x="624" y="288"/>
                  </a:lnTo>
                  <a:lnTo>
                    <a:pt x="52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03560" y="2910960"/>
              <a:ext cx="122760" cy="9252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592200" y="2744640"/>
            <a:ext cx="79200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 Narrow"/>
              </a:rPr>
              <a:t>R1.0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85720" y="3357720"/>
            <a:ext cx="895320" cy="429840"/>
            <a:chOff x="585720" y="3357720"/>
            <a:chExt cx="895320" cy="429840"/>
          </a:xfrm>
        </p:grpSpPr>
        <p:grpSp>
          <p:nvGrpSpPr>
            <p:cNvPr id="695" name=""/>
            <p:cNvGrpSpPr/>
            <p:nvPr/>
          </p:nvGrpSpPr>
          <p:grpSpPr>
            <a:xfrm>
              <a:off x="684000" y="3384720"/>
              <a:ext cx="797040" cy="371520"/>
              <a:chOff x="684000" y="3384720"/>
              <a:chExt cx="797040" cy="371520"/>
            </a:xfrm>
          </p:grpSpPr>
          <p:sp>
            <p:nvSpPr>
              <p:cNvPr id="696" name=""/>
              <p:cNvSpPr/>
              <p:nvPr/>
            </p:nvSpPr>
            <p:spPr>
              <a:xfrm>
                <a:off x="684000" y="3384720"/>
                <a:ext cx="797040" cy="371520"/>
              </a:xfrm>
              <a:custGeom>
                <a:avLst/>
                <a:gdLst/>
                <a:ahLst/>
                <a:rect l="l" t="t" r="r" b="b"/>
                <a:pathLst>
                  <a:path w="624" h="384">
                    <a:moveTo>
                      <a:pt x="0" y="0"/>
                    </a:moveTo>
                    <a:lnTo>
                      <a:pt x="528" y="0"/>
                    </a:lnTo>
                    <a:lnTo>
                      <a:pt x="624" y="96"/>
                    </a:lnTo>
                    <a:lnTo>
                      <a:pt x="624" y="288"/>
                    </a:lnTo>
                    <a:lnTo>
                      <a:pt x="52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297080" y="3524040"/>
                <a:ext cx="122760" cy="9252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585720" y="3357720"/>
              <a:ext cx="79200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 Narrow"/>
                </a:rPr>
                <a:t>R1.0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05280" y="1944720"/>
            <a:ext cx="797040" cy="371520"/>
            <a:chOff x="3905280" y="1944720"/>
            <a:chExt cx="797040" cy="371520"/>
          </a:xfrm>
        </p:grpSpPr>
        <p:sp>
          <p:nvSpPr>
            <p:cNvPr id="700" name=""/>
            <p:cNvSpPr/>
            <p:nvPr/>
          </p:nvSpPr>
          <p:spPr>
            <a:xfrm>
              <a:off x="3905280" y="1944720"/>
              <a:ext cx="797040" cy="3715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0" y="0"/>
                  </a:moveTo>
                  <a:lnTo>
                    <a:pt x="528" y="0"/>
                  </a:lnTo>
                  <a:lnTo>
                    <a:pt x="624" y="96"/>
                  </a:lnTo>
                  <a:lnTo>
                    <a:pt x="624" y="288"/>
                  </a:lnTo>
                  <a:lnTo>
                    <a:pt x="52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18360" y="2084040"/>
              <a:ext cx="122760" cy="9252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807000" y="1917720"/>
            <a:ext cx="792000" cy="4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 Narrow"/>
              </a:rPr>
              <a:t>R1.0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77880" y="4090680"/>
            <a:ext cx="6560640" cy="2142000"/>
            <a:chOff x="677880" y="4090680"/>
            <a:chExt cx="6560640" cy="2142000"/>
          </a:xfrm>
        </p:grpSpPr>
        <p:sp>
          <p:nvSpPr>
            <p:cNvPr id="704" name=""/>
            <p:cNvSpPr/>
            <p:nvPr/>
          </p:nvSpPr>
          <p:spPr>
            <a:xfrm>
              <a:off x="1552320" y="5143680"/>
              <a:ext cx="38052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1742400" y="4090680"/>
              <a:ext cx="5496120" cy="2142000"/>
              <a:chOff x="1742400" y="4090680"/>
              <a:chExt cx="5496120" cy="2142000"/>
            </a:xfrm>
          </p:grpSpPr>
          <p:cxnSp>
            <p:nvCxnSpPr>
              <p:cNvPr id="706" name=""/>
              <p:cNvCxnSpPr>
                <a:stCxn id="666" idx="3"/>
                <a:endCxn id="704" idx="6"/>
              </p:cNvCxnSpPr>
              <p:nvPr/>
            </p:nvCxnSpPr>
            <p:spPr>
              <a:xfrm flipV="1" rot="16200000">
                <a:off x="2614320" y="4670640"/>
                <a:ext cx="321120" cy="1646640"/>
              </a:xfrm>
              <a:prstGeom prst="curvedConnector5">
                <a:avLst>
                  <a:gd name="adj1" fmla="val -56902"/>
                  <a:gd name="adj2" fmla="val 38224"/>
                  <a:gd name="adj3" fmla="val -56902"/>
                </a:avLst>
              </a:prstGeom>
              <a:ln w="38160">
                <a:solidFill>
                  <a:srgbClr val="99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707" name=""/>
              <p:cNvCxnSpPr/>
              <p:nvPr/>
            </p:nvCxnSpPr>
            <p:spPr>
              <a:xfrm rot="5400000">
                <a:off x="3763800" y="2069280"/>
                <a:ext cx="1453320" cy="5496480"/>
              </a:xfrm>
              <a:prstGeom prst="curvedConnector5">
                <a:avLst>
                  <a:gd name="adj1" fmla="val 147423"/>
                  <a:gd name="adj2" fmla="val 49996"/>
                  <a:gd name="adj3" fmla="val 147423"/>
                </a:avLst>
              </a:prstGeom>
              <a:ln w="38160">
                <a:solidFill>
                  <a:srgbClr val="99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708" name=""/>
              <p:cNvCxnSpPr>
                <a:stCxn id="676" idx="4"/>
                <a:endCxn id="704" idx="5"/>
              </p:cNvCxnSpPr>
              <p:nvPr/>
            </p:nvCxnSpPr>
            <p:spPr>
              <a:xfrm rot="5400000">
                <a:off x="3290400" y="3270960"/>
                <a:ext cx="803880" cy="3630960"/>
              </a:xfrm>
              <a:prstGeom prst="curvedConnector5">
                <a:avLst>
                  <a:gd name="adj1" fmla="val 168369"/>
                  <a:gd name="adj2" fmla="val 49995"/>
                  <a:gd name="adj3" fmla="val 168369"/>
                </a:avLst>
              </a:prstGeom>
              <a:ln w="38160">
                <a:solidFill>
                  <a:srgbClr val="990000"/>
                </a:solidFill>
                <a:prstDash val="dash"/>
                <a:miter/>
                <a:tailEnd len="med" type="triangle" w="med"/>
              </a:ln>
            </p:spPr>
          </p:cxnSp>
        </p:grpSp>
        <p:grpSp>
          <p:nvGrpSpPr>
            <p:cNvPr id="709" name=""/>
            <p:cNvGrpSpPr/>
            <p:nvPr/>
          </p:nvGrpSpPr>
          <p:grpSpPr>
            <a:xfrm>
              <a:off x="677880" y="5097600"/>
              <a:ext cx="828000" cy="429840"/>
              <a:chOff x="677880" y="5097600"/>
              <a:chExt cx="828000" cy="42984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768240" y="5124600"/>
                <a:ext cx="737640" cy="371160"/>
                <a:chOff x="768240" y="5124600"/>
                <a:chExt cx="737640" cy="3711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768240" y="5124600"/>
                  <a:ext cx="737640" cy="371160"/>
                </a:xfrm>
                <a:custGeom>
                  <a:avLst/>
                  <a:gdLst/>
                  <a:ahLst/>
                  <a:rect l="l" t="t" r="r" b="b"/>
                  <a:pathLst>
                    <a:path w="624" h="384">
                      <a:moveTo>
                        <a:pt x="0" y="0"/>
                      </a:moveTo>
                      <a:lnTo>
                        <a:pt x="528" y="0"/>
                      </a:lnTo>
                      <a:lnTo>
                        <a:pt x="624" y="96"/>
                      </a:lnTo>
                      <a:lnTo>
                        <a:pt x="624" y="288"/>
                      </a:lnTo>
                      <a:lnTo>
                        <a:pt x="528" y="384"/>
                      </a:lnTo>
                      <a:lnTo>
                        <a:pt x="0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1908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35600" y="5263560"/>
                  <a:ext cx="113400" cy="9252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"/>
              <p:cNvSpPr/>
              <p:nvPr/>
            </p:nvSpPr>
            <p:spPr>
              <a:xfrm>
                <a:off x="677880" y="5097600"/>
                <a:ext cx="733320" cy="42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3300"/>
                    </a:solidFill>
                    <a:latin typeface="Arial Narrow"/>
                  </a:rPr>
                  <a:t>R1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2587680" y="3711600"/>
            <a:ext cx="5765760" cy="2036520"/>
            <a:chOff x="2587680" y="3711600"/>
            <a:chExt cx="5765760" cy="2036520"/>
          </a:xfrm>
        </p:grpSpPr>
        <p:grpSp>
          <p:nvGrpSpPr>
            <p:cNvPr id="715" name=""/>
            <p:cNvGrpSpPr/>
            <p:nvPr/>
          </p:nvGrpSpPr>
          <p:grpSpPr>
            <a:xfrm>
              <a:off x="2587680" y="5318280"/>
              <a:ext cx="911160" cy="429840"/>
              <a:chOff x="2587680" y="5318280"/>
              <a:chExt cx="911160" cy="42984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2702160" y="5329080"/>
                <a:ext cx="796680" cy="371520"/>
                <a:chOff x="2702160" y="5329080"/>
                <a:chExt cx="796680" cy="3715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2702160" y="5329080"/>
                  <a:ext cx="796680" cy="371520"/>
                </a:xfrm>
                <a:custGeom>
                  <a:avLst/>
                  <a:gdLst/>
                  <a:ahLst/>
                  <a:rect l="l" t="t" r="r" b="b"/>
                  <a:pathLst>
                    <a:path w="624" h="384">
                      <a:moveTo>
                        <a:pt x="0" y="0"/>
                      </a:moveTo>
                      <a:lnTo>
                        <a:pt x="528" y="0"/>
                      </a:lnTo>
                      <a:lnTo>
                        <a:pt x="624" y="96"/>
                      </a:lnTo>
                      <a:lnTo>
                        <a:pt x="624" y="288"/>
                      </a:lnTo>
                      <a:lnTo>
                        <a:pt x="528" y="384"/>
                      </a:lnTo>
                      <a:lnTo>
                        <a:pt x="0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1908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314880" y="5468400"/>
                  <a:ext cx="122760" cy="9252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2587680" y="5318280"/>
                <a:ext cx="792360" cy="42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66"/>
                    </a:solidFill>
                    <a:latin typeface="Arial Narrow"/>
                  </a:rPr>
                  <a:t>R1.0.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4388040" y="4308480"/>
              <a:ext cx="895320" cy="429840"/>
              <a:chOff x="4388040" y="4308480"/>
              <a:chExt cx="895320" cy="42984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4486320" y="4319640"/>
                <a:ext cx="797040" cy="371520"/>
                <a:chOff x="4486320" y="4319640"/>
                <a:chExt cx="797040" cy="3715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4486320" y="4319640"/>
                  <a:ext cx="797040" cy="371520"/>
                </a:xfrm>
                <a:custGeom>
                  <a:avLst/>
                  <a:gdLst/>
                  <a:ahLst/>
                  <a:rect l="l" t="t" r="r" b="b"/>
                  <a:pathLst>
                    <a:path w="624" h="384">
                      <a:moveTo>
                        <a:pt x="0" y="0"/>
                      </a:moveTo>
                      <a:lnTo>
                        <a:pt x="528" y="0"/>
                      </a:lnTo>
                      <a:lnTo>
                        <a:pt x="624" y="96"/>
                      </a:lnTo>
                      <a:lnTo>
                        <a:pt x="624" y="288"/>
                      </a:lnTo>
                      <a:lnTo>
                        <a:pt x="528" y="384"/>
                      </a:lnTo>
                      <a:lnTo>
                        <a:pt x="0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1908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099040" y="4459320"/>
                  <a:ext cx="122400" cy="9216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4388040" y="4308480"/>
                <a:ext cx="792000" cy="42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66"/>
                    </a:solidFill>
                    <a:latin typeface="Arial Narrow"/>
                  </a:rPr>
                  <a:t>R1.0.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505640" y="3711600"/>
              <a:ext cx="847800" cy="429840"/>
              <a:chOff x="7505640" y="3711600"/>
              <a:chExt cx="847800" cy="42984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7505640" y="3738600"/>
                <a:ext cx="796680" cy="371520"/>
                <a:chOff x="7505640" y="3738600"/>
                <a:chExt cx="796680" cy="371520"/>
              </a:xfrm>
            </p:grpSpPr>
            <p:sp>
              <p:nvSpPr>
                <p:cNvPr id="727" name=""/>
                <p:cNvSpPr/>
                <p:nvPr/>
              </p:nvSpPr>
              <p:spPr>
                <a:xfrm flipH="1">
                  <a:off x="7505280" y="3738600"/>
                  <a:ext cx="796680" cy="371520"/>
                </a:xfrm>
                <a:custGeom>
                  <a:avLst/>
                  <a:gdLst/>
                  <a:ahLst/>
                  <a:rect l="l" t="t" r="r" b="b"/>
                  <a:pathLst>
                    <a:path w="624" h="384">
                      <a:moveTo>
                        <a:pt x="0" y="0"/>
                      </a:moveTo>
                      <a:lnTo>
                        <a:pt x="528" y="0"/>
                      </a:lnTo>
                      <a:lnTo>
                        <a:pt x="624" y="96"/>
                      </a:lnTo>
                      <a:lnTo>
                        <a:pt x="624" y="288"/>
                      </a:lnTo>
                      <a:lnTo>
                        <a:pt x="528" y="384"/>
                      </a:lnTo>
                      <a:lnTo>
                        <a:pt x="0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1908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>
                  <a:off x="7566480" y="3877920"/>
                  <a:ext cx="122760" cy="9252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 flipH="1">
                <a:off x="7561440" y="3711600"/>
                <a:ext cx="792000" cy="42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66"/>
                    </a:solidFill>
                    <a:latin typeface="Arial Narrow"/>
                  </a:rPr>
                  <a:t>R1.0.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ong, Lean And Ugly” Branching &amp; Merging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83840" y="1112400"/>
            <a:ext cx="833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Config Spec to build 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 * CHECKED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CRs for current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 * …/bld_r1.0.4/L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 * …/privatebr1/L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 * …/privatebr2/L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 * R1.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Config Spec after labeling 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 * CHECKED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 * R1.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Long, Lean &amp; Ugly” Branching + Merging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[real 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372960" y="1068480"/>
          <a:ext cx="79250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068480"/>
                    <a:ext cx="79250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 4: Analysi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83840" y="1119240"/>
            <a:ext cx="8332920" cy="3250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down into several core "styl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style: early or l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ing style: rebase or re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ing style: lean+ugly or fat+pr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-level: developer push or integrator 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(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ach solution maps to these "styl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ranching Style: Early Or Laz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83840" y="1112400"/>
            <a:ext cx="8332920" cy="4218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or l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arly branching when you have larger teams with several parallel releases at once with a lot of activity in each re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azy branching when you have smaller teams that usually have at most one development release and a few maintenance-only lines with occasional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both for mediu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branching at the top to isolate major changes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zy branching at the lower levels to keep the vtree from getting too wide and unwiel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pdating Style: Rebase Or Rebran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83840" y="974520"/>
            <a:ext cx="8448840" cy="532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asing can be a bit simpler i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is automated (especially for config-spec ed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orking with one component/label that needs to be re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ant the additional “rebranches” adding clutter to the v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need/want the extra view+storage creation or “checkpoi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6d94"/>
                </a:solidFill>
                <a:latin typeface="Arial"/>
              </a:rPr>
              <a:t>Recommended for smaller teams and projects working on only one component/label and/or view storage is at a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ranching can be simpler whe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basing would require non-trivial manual config-spec editing and long reba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evelopment private branch (stream) has lived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files from several components/labels that you need to “merge up”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/want the extra view and checkpoint for the private “re-bran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6d94"/>
                </a:solidFill>
                <a:latin typeface="Arial"/>
              </a:rPr>
              <a:t>Recommended when working with changes that must span many components/labels, and/or when want to use the GUI and rebasing would otherwise require manual cspec-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erging Style: Lean-And-Ugly Or Fat-And-Pret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83840" y="1099800"/>
            <a:ext cx="8332920" cy="4720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 merging &amp; Pretty vtree is good wh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pent merging is minimal to mo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/want to rely on graphical vtree  for “conceptual assista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merging &amp; Ugly vtree is good wh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perform all the copymerges would otherwise cause prohibitive integration+bui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rely too heavily on GUI vtree for “conceptual assista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ime, resources and expertise to tool/script the “lean” aspects of m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Part 1: Introdu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3840" y="1112400"/>
            <a:ext cx="8332920" cy="4328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6d94"/>
                </a:solidFill>
                <a:latin typeface="Arial"/>
              </a:rPr>
              <a:t>Brad Apple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CM “anthropologist” &amp; process/too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http://acme.bradapp.net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6d94"/>
                </a:solidFill>
                <a:latin typeface="Arial"/>
              </a:rPr>
              <a:t>Darryl Hah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4 years in SCM, RUC Speaker since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M with ClearCase/ClearQuest and UCM for 250+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nded Audi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amp; Experie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M practitioners of IBM Rational Clear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A / CMM Support Staff seeking SCM techniques to achieve CMM Level 2 o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what a private branch is and how to use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how to merge with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sure to branching used in parallel development of multiple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with UCM’s deliver and rebas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82324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on Style: Developer “Push” Or Integrator “Pull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84200" y="1112760"/>
            <a:ext cx="8508960" cy="5078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77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-push or Integrator-pu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veloper-pu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ess than a dozen or so developers per integration branch and the developers know how to do the 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ing U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grator-p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spcBef>
                <a:spcPts val="3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branch must be highly stable, or highly volatile and accommodates more than a dozen or so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3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both for medium-large project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97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or-pull at top-branches to isolate for safety at broader scope and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97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r-push at the lower-levels to promote more frequent (and more visible) coordination and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97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-pull docking branch is a good example of balancing th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reakdown Of Each Model Into Its Constituent Sty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585720" y="1295280"/>
          <a:ext cx="8013600" cy="3324240"/>
        </p:xfrm>
        <a:graphic>
          <a:graphicData uri="http://schemas.openxmlformats.org/drawingml/2006/table">
            <a:tbl>
              <a:tblPr/>
              <a:tblGrid>
                <a:gridCol w="1781280"/>
                <a:gridCol w="1574640"/>
                <a:gridCol w="1568520"/>
                <a:gridCol w="1470240"/>
                <a:gridCol w="1618920"/>
              </a:tblGrid>
              <a:tr h="70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ing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or Laz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push, remote pu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z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n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</a:t>
                      </a:r>
                      <a:r>
                        <a:rPr b="0" lang="en-US" sz="20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3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84200" y="4979520"/>
            <a:ext cx="8508960" cy="869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457200" indent="-457200">
              <a:lnSpc>
                <a:spcPct val="77000"/>
              </a:lnSpc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e” merging style is “Lean” since it typically has very few private branches to merge (But on the rare occasions when it does, it is “Fa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7000"/>
              </a:lnSpc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P” is both Push &amp; Pull when Docking line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rix Analysi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206280" y="1006560"/>
          <a:ext cx="8761680" cy="5079960"/>
        </p:xfrm>
        <a:graphic>
          <a:graphicData uri="http://schemas.openxmlformats.org/drawingml/2006/table">
            <a:tbl>
              <a:tblPr/>
              <a:tblGrid>
                <a:gridCol w="1847880"/>
                <a:gridCol w="1795680"/>
                <a:gridCol w="1769760"/>
                <a:gridCol w="1665360"/>
                <a:gridCol w="1683000"/>
              </a:tblGrid>
              <a:tr h="6156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9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ClearCase Skill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ing time+eff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c/Tools/Tri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omplex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Trust &amp; Discip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for Paralle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v200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0" name=""/>
          <p:cNvSpPr/>
          <p:nvPr/>
        </p:nvSpPr>
        <p:spPr>
          <a:xfrm>
            <a:off x="3335400" y="1955880"/>
            <a:ext cx="457200" cy="44280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335400" y="2759040"/>
            <a:ext cx="45720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106960" y="3483000"/>
            <a:ext cx="457200" cy="442800"/>
            <a:chOff x="5106960" y="3483000"/>
            <a:chExt cx="457200" cy="442800"/>
          </a:xfrm>
        </p:grpSpPr>
        <p:sp>
          <p:nvSpPr>
            <p:cNvPr id="753" name=""/>
            <p:cNvSpPr/>
            <p:nvPr/>
          </p:nvSpPr>
          <p:spPr>
            <a:xfrm>
              <a:off x="5106960" y="3483000"/>
              <a:ext cx="457200" cy="442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5236560" y="3397680"/>
              <a:ext cx="221760" cy="417600"/>
            </a:xfrm>
            <a:prstGeom prst="flowChartDelay">
              <a:avLst/>
            </a:prstGeom>
            <a:solidFill>
              <a:srgbClr val="00cc66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3335400" y="3483000"/>
            <a:ext cx="457200" cy="44280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335400" y="4181400"/>
            <a:ext cx="457200" cy="44316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106960" y="1955880"/>
            <a:ext cx="457200" cy="44280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106960" y="2759040"/>
            <a:ext cx="457200" cy="44280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106960" y="5567400"/>
            <a:ext cx="45720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106960" y="4181400"/>
            <a:ext cx="457200" cy="443160"/>
            <a:chOff x="5106960" y="4181400"/>
            <a:chExt cx="457200" cy="443160"/>
          </a:xfrm>
        </p:grpSpPr>
        <p:sp>
          <p:nvSpPr>
            <p:cNvPr id="761" name=""/>
            <p:cNvSpPr/>
            <p:nvPr/>
          </p:nvSpPr>
          <p:spPr>
            <a:xfrm>
              <a:off x="5106960" y="4181400"/>
              <a:ext cx="45720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6200000">
              <a:off x="5236200" y="4096080"/>
              <a:ext cx="222120" cy="417600"/>
            </a:xfrm>
            <a:prstGeom prst="flowChartDelay">
              <a:avLst/>
            </a:prstGeom>
            <a:solidFill>
              <a:srgbClr val="00cc66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724800" y="2759040"/>
            <a:ext cx="45720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24800" y="5567400"/>
            <a:ext cx="457200" cy="44280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724800" y="4181400"/>
            <a:ext cx="457200" cy="443160"/>
            <a:chOff x="6724800" y="4181400"/>
            <a:chExt cx="457200" cy="443160"/>
          </a:xfrm>
        </p:grpSpPr>
        <p:sp>
          <p:nvSpPr>
            <p:cNvPr id="766" name=""/>
            <p:cNvSpPr/>
            <p:nvPr/>
          </p:nvSpPr>
          <p:spPr>
            <a:xfrm>
              <a:off x="6724800" y="4181400"/>
              <a:ext cx="45720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6200000">
              <a:off x="6854040" y="4096080"/>
              <a:ext cx="222120" cy="417600"/>
            </a:xfrm>
            <a:prstGeom prst="flowChartDelay">
              <a:avLst/>
            </a:prstGeom>
            <a:solidFill>
              <a:srgbClr val="00cc66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724800" y="3483000"/>
            <a:ext cx="45720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442360" y="1955880"/>
            <a:ext cx="45720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442360" y="2759040"/>
            <a:ext cx="457200" cy="44280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442360" y="3483000"/>
            <a:ext cx="45720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442360" y="4181400"/>
            <a:ext cx="457200" cy="44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442360" y="5567400"/>
            <a:ext cx="457200" cy="44280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6724800" y="1957320"/>
            <a:ext cx="457200" cy="443160"/>
            <a:chOff x="6724800" y="1957320"/>
            <a:chExt cx="457200" cy="443160"/>
          </a:xfrm>
        </p:grpSpPr>
        <p:sp>
          <p:nvSpPr>
            <p:cNvPr id="775" name=""/>
            <p:cNvSpPr/>
            <p:nvPr/>
          </p:nvSpPr>
          <p:spPr>
            <a:xfrm>
              <a:off x="6724800" y="1957320"/>
              <a:ext cx="45720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6200000">
              <a:off x="6854040" y="1872000"/>
              <a:ext cx="222120" cy="417600"/>
            </a:xfrm>
            <a:prstGeom prst="flowChartDelay">
              <a:avLst/>
            </a:prstGeom>
            <a:solidFill>
              <a:srgbClr val="00cc66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335400" y="5567400"/>
            <a:ext cx="457200" cy="442800"/>
            <a:chOff x="3335400" y="5567400"/>
            <a:chExt cx="457200" cy="442800"/>
          </a:xfrm>
        </p:grpSpPr>
        <p:sp>
          <p:nvSpPr>
            <p:cNvPr id="778" name=""/>
            <p:cNvSpPr/>
            <p:nvPr/>
          </p:nvSpPr>
          <p:spPr>
            <a:xfrm>
              <a:off x="3335400" y="5567400"/>
              <a:ext cx="457200" cy="442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6200000">
              <a:off x="3465000" y="5482080"/>
              <a:ext cx="221760" cy="417600"/>
            </a:xfrm>
            <a:prstGeom prst="flowChartDelay">
              <a:avLst/>
            </a:prstGeom>
            <a:solidFill>
              <a:srgbClr val="00cc66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5108400" y="4896000"/>
            <a:ext cx="457200" cy="44280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442360" y="4896000"/>
            <a:ext cx="45720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24800" y="4896000"/>
            <a:ext cx="45720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36d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28920" y="4900680"/>
            <a:ext cx="457200" cy="442800"/>
            <a:chOff x="3328920" y="4900680"/>
            <a:chExt cx="457200" cy="442800"/>
          </a:xfrm>
        </p:grpSpPr>
        <p:sp>
          <p:nvSpPr>
            <p:cNvPr id="784" name=""/>
            <p:cNvSpPr/>
            <p:nvPr/>
          </p:nvSpPr>
          <p:spPr>
            <a:xfrm>
              <a:off x="3328920" y="4900680"/>
              <a:ext cx="457200" cy="442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6200000">
              <a:off x="3458520" y="4815360"/>
              <a:ext cx="221760" cy="417600"/>
            </a:xfrm>
            <a:prstGeom prst="flowChartDelay">
              <a:avLst/>
            </a:prstGeom>
            <a:solidFill>
              <a:srgbClr val="00cc66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82160" y="48276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 5: Implem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83840" y="1112400"/>
            <a:ext cx="83329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Process, Triggers &amp; Tools (PTT) to support the 4 models/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16668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M P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the product, need we say more?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ailor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2860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Integration Stream properties page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2860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triggers on UCM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16668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Lean and Lazy" (Agile) Branching P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riggers (high trust &amp; high discip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ooling/scripting for change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cessary Process, Triggers &amp; Tools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83840" y="1112760"/>
            <a:ext cx="8332920" cy="443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hort, Fat &amp; Pretty" Branching + Merging  P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Targeting mechanism for builder to “accept” a CR into the next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 to control branch naming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cr#&gt;-&lt;site&gt;-&lt;devi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 to control changes/merging to Product Integration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builder runs to verify each CR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eckouts, no branch lock, code-inspecte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developer runs to perform re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config-spec &amp; then findme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UI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merge to do “fat” merges from CR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cessary Process, Triggers &amp; Tools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83840" y="1112760"/>
            <a:ext cx="83329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Long, Lean &amp; Ugly" Branching + Merging P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quest tool for developer to request a CR be added to the next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 to control branch naming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cr#&gt;-&lt;site&gt;-&lt;devi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 to control changes/merging to Product Integration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builder runs to verify each CR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eckouts, no branch lock, code-inspecte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builder runs to find merge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merge between all CR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merge between all CR branches and last releas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2860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er resolves conflicts on build branch (task bra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 6: Conclus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83840" y="1112760"/>
            <a:ext cx="8332920" cy="4133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“one right” answer – everything is a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97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-off in favor of safety (stability) or liveness (spee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97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ritical is the impact of an “unwanted” change that “breaks” the bui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97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time and overhead to back out a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97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can you trust your developers to merge prope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your risk tolerance and which risk factors apply to your enviro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the trade-offs that are most important/applicable for your organization, and select from the the best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rther Resour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83840" y="869760"/>
            <a:ext cx="8659800" cy="5367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revious RUC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C2001 CM07: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Branching Strategies in Rational ClearCas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Lars Kr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C2001 CM21: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Rolling Out UC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Jack Sk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C2000 CCM02: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Branching and Labeling Best Practic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Brad App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C1998 CCM11: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Intro to ClearCase Branching Strategi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Doug Fi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C2002 SCM28 How Rational Uses Rational ClearCase and UCM, Mike Do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UC2002 SCMA05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UCM Change Flow Scenarios with ClearCase v200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Shirley 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Branching Best Practic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Streamed Lines: Branching Patter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ppleton et.al.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High-level Best Practices in S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ngerd &amp; Seiwald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Advanced Branching Strate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ance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4"/>
              </a:rPr>
              <a:t>“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5"/>
              </a:rPr>
              <a:t>Rebranching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6"/>
              </a:rPr>
              <a:t>” tech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ffenbarger &amp; Gruell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7"/>
              </a:rPr>
              <a:t>Importance of Branching Models in S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trom &amp; Walrad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8"/>
              </a:rPr>
              <a:t>David 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9"/>
              </a:rPr>
              <a:t>Weintraub’s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10"/>
              </a:rPr>
              <a:t> ClearCase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11"/>
              </a:rPr>
              <a:t>UCM Central’s Branch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12"/>
              </a:rPr>
              <a:t>SCM Patterns: 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 Narrow"/>
                <a:hlinkClick r:id="rId13"/>
              </a:rPr>
              <a:t>Effective Teamwork, Practical Integr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rczuk &amp; Appleton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82160" y="564840"/>
            <a:ext cx="3265560" cy="3163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ameless Plug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uy the book!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7" name="Berczuk.final" descr=""/>
          <p:cNvPicPr/>
          <p:nvPr/>
        </p:nvPicPr>
        <p:blipFill>
          <a:blip r:embed="rId1"/>
          <a:stretch/>
        </p:blipFill>
        <p:spPr>
          <a:xfrm>
            <a:off x="3397320" y="495360"/>
            <a:ext cx="4719600" cy="573408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1295280" y="16574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920880" y="1387440"/>
            <a:ext cx="7327800" cy="349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1916280" y="3038400"/>
            <a:ext cx="5337000" cy="1255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36d94"/>
                </a:solidFill>
                <a:latin typeface="Arial Black"/>
              </a:rPr>
              <a:t>QUESTIONS</a:t>
            </a:r>
            <a:endParaRPr b="0" lang="en-US" sz="1800" spc="1" strike="noStrike">
              <a:ln w="0">
                <a:noFill/>
              </a:ln>
              <a:solidFill>
                <a:srgbClr val="736d94"/>
              </a:solidFill>
              <a:latin typeface="Arial Black"/>
              <a:ea typeface="Arial Black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2809800" y="987480"/>
            <a:ext cx="3549600" cy="147636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719280" y="5262480"/>
            <a:ext cx="77212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Special Thank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Ralph Capasso, Rolf Nelson, Geoffrey Clemm, and Diane Bugaj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160" y="46476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Times New Roman"/>
              </a:rPr>
              <a:t>Purpose: Branching Strategy For Parallel Develop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3840" y="1112400"/>
            <a:ext cx="8332920" cy="4689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ching solution and process model to accommodate "heavy" parallel development in mediu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imultaneous tasks per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developers per code module per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ed by Change Control Board (CC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SEI CMM Level 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 for simple &amp;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907920" y="1198440"/>
            <a:ext cx="7328160" cy="27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4560" y="2538360"/>
            <a:ext cx="4698720" cy="116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36d94"/>
                </a:solidFill>
                <a:latin typeface="Arial Black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736d94"/>
              </a:solidFill>
              <a:latin typeface="Arial Black"/>
              <a:ea typeface="Arial Black"/>
            </a:endParaRPr>
          </a:p>
        </p:txBody>
      </p:sp>
      <p:sp>
        <p:nvSpPr>
          <p:cNvPr id="805" name=""/>
          <p:cNvSpPr/>
          <p:nvPr/>
        </p:nvSpPr>
        <p:spPr>
          <a:xfrm>
            <a:off x="662040" y="4208400"/>
            <a:ext cx="77216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 algn="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rad Appl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Darryl A. Ha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rad.Appleton@motorola.com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D.Hahn@motorola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2797200" y="797040"/>
            <a:ext cx="35496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 2: Background: Building Blocks (Terminology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3840" y="1252440"/>
            <a:ext cx="8332920" cy="419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Development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Branching vs. Lazy Bra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Merging vs. Fat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 Push vs. Integrator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Push Integration Task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3184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-Pull Docking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749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basing and Rebra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vate Development Bran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3840" y="939600"/>
            <a:ext cx="8332920" cy="5387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ranch-type with access restricted exclusively to the developer responsible for making changes on th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out/Checkin as desired on the “private bran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developers cannot see changes until they deliver (merge back) to the integration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per task/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together all modifications made per task/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“private branch” with a “view profile” on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-access restricted exclusively for a single fix or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 “lock down” when change/activity is comple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branch naming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CR&gt;-&lt;site&gt;-&lt;developer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er developer per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UCM, one branch-type per project for multiple activities, one activity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location and stream for developer to work on all their activities for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vate Development Branch 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[per-task example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63600" y="1182600"/>
            <a:ext cx="1752840" cy="1738440"/>
            <a:chOff x="2163600" y="1182600"/>
            <a:chExt cx="1752840" cy="1738440"/>
          </a:xfrm>
        </p:grpSpPr>
        <p:sp>
          <p:nvSpPr>
            <p:cNvPr id="126" name=""/>
            <p:cNvSpPr/>
            <p:nvPr/>
          </p:nvSpPr>
          <p:spPr>
            <a:xfrm>
              <a:off x="3073320" y="1968480"/>
              <a:ext cx="0" cy="609480"/>
            </a:xfrm>
            <a:prstGeom prst="line">
              <a:avLst/>
            </a:prstGeom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3600" y="1182600"/>
              <a:ext cx="1752840" cy="7678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8200" y="254016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198240" y="5277960"/>
            <a:ext cx="3313440" cy="555480"/>
            <a:chOff x="3198240" y="5277960"/>
            <a:chExt cx="3313440" cy="555480"/>
          </a:xfrm>
        </p:grpSpPr>
        <p:cxnSp>
          <p:nvCxnSpPr>
            <p:cNvPr id="130" name=""/>
            <p:cNvCxnSpPr>
              <a:stCxn id="131" idx="4"/>
              <a:endCxn id="132" idx="5"/>
            </p:cNvCxnSpPr>
            <p:nvPr/>
          </p:nvCxnSpPr>
          <p:spPr>
            <a:xfrm rot="5400000">
              <a:off x="4718160" y="3758040"/>
              <a:ext cx="273960" cy="3313800"/>
            </a:xfrm>
            <a:prstGeom prst="curvedConnector5">
              <a:avLst>
                <a:gd name="adj1" fmla="val 196973"/>
                <a:gd name="adj2" fmla="val 50000"/>
                <a:gd name="adj3" fmla="val 196973"/>
              </a:avLst>
            </a:prstGeom>
            <a:ln w="38160">
              <a:solidFill>
                <a:srgbClr val="ff66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3625920" y="5321160"/>
              <a:ext cx="236196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 Narrow"/>
                </a:rPr>
                <a:t>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 Narrow"/>
                </a:rPr>
                <a:t>merge bac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3480" y="2701800"/>
            <a:ext cx="5076720" cy="2562840"/>
            <a:chOff x="3273480" y="2701800"/>
            <a:chExt cx="5076720" cy="2562840"/>
          </a:xfrm>
        </p:grpSpPr>
        <p:sp>
          <p:nvSpPr>
            <p:cNvPr id="135" name=""/>
            <p:cNvSpPr/>
            <p:nvPr/>
          </p:nvSpPr>
          <p:spPr>
            <a:xfrm>
              <a:off x="3273480" y="2701800"/>
              <a:ext cx="3319560" cy="642960"/>
            </a:xfrm>
            <a:prstGeom prst="line">
              <a:avLst/>
            </a:prstGeom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26080" y="3330720"/>
              <a:ext cx="1781280" cy="426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 Narrow"/>
                </a:rPr>
                <a:t>private branc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054920" y="4025880"/>
              <a:ext cx="1295280" cy="1238760"/>
              <a:chOff x="7054920" y="4025880"/>
              <a:chExt cx="1295280" cy="123876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7416720" y="4025880"/>
                <a:ext cx="762120" cy="819000"/>
                <a:chOff x="7416720" y="4025880"/>
                <a:chExt cx="762120" cy="8190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16720" y="4387680"/>
                  <a:ext cx="762120" cy="457200"/>
                </a:xfrm>
                <a:prstGeom prst="parallelogram">
                  <a:avLst>
                    <a:gd name="adj" fmla="val 41673"/>
                  </a:avLst>
                </a:prstGeom>
                <a:solidFill>
                  <a:srgbClr val="ff9999"/>
                </a:solidFill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21640" y="4025880"/>
                  <a:ext cx="380880" cy="304920"/>
                </a:xfrm>
                <a:prstGeom prst="ellipse">
                  <a:avLst/>
                </a:prstGeom>
                <a:solidFill>
                  <a:srgbClr val="ff9999"/>
                </a:solidFill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7054920" y="4807080"/>
                <a:ext cx="12952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3366"/>
                    </a:solidFill>
                    <a:latin typeface="Arial Narrow"/>
                  </a:rPr>
                  <a:t>Develop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873520" y="2901960"/>
            <a:ext cx="380880" cy="2685960"/>
            <a:chOff x="2873520" y="2901960"/>
            <a:chExt cx="380880" cy="2685960"/>
          </a:xfrm>
        </p:grpSpPr>
        <p:sp>
          <p:nvSpPr>
            <p:cNvPr id="132" name=""/>
            <p:cNvSpPr/>
            <p:nvPr/>
          </p:nvSpPr>
          <p:spPr>
            <a:xfrm>
              <a:off x="2873520" y="520704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73320" y="2901960"/>
              <a:ext cx="0" cy="2286000"/>
            </a:xfrm>
            <a:prstGeom prst="line">
              <a:avLst/>
            </a:prstGeom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316560" y="3816360"/>
            <a:ext cx="385920" cy="1442880"/>
            <a:chOff x="6316560" y="3816360"/>
            <a:chExt cx="385920" cy="1442880"/>
          </a:xfrm>
        </p:grpSpPr>
        <p:sp>
          <p:nvSpPr>
            <p:cNvPr id="145" name=""/>
            <p:cNvSpPr/>
            <p:nvPr/>
          </p:nvSpPr>
          <p:spPr>
            <a:xfrm flipH="1">
              <a:off x="6516360" y="4425840"/>
              <a:ext cx="4680" cy="480960"/>
            </a:xfrm>
            <a:prstGeom prst="line">
              <a:avLst/>
            </a:prstGeom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21600" y="4878360"/>
              <a:ext cx="38088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12040" y="3816360"/>
              <a:ext cx="9360" cy="361800"/>
            </a:xfrm>
            <a:prstGeom prst="line">
              <a:avLst/>
            </a:prstGeom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6560" y="4102200"/>
              <a:ext cx="381240" cy="3808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736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160" y="447840"/>
            <a:ext cx="8961480" cy="47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arly Branching vs. Lazy Branch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3840" y="1112760"/>
            <a:ext cx="8332920" cy="4645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Branching (a.k.a. “up front” or “just in cas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-off a new line of work after it is planned, but before it actually be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s for each release or major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separate development &amp; maintenance lines early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ficial release labels as a base for new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zy Branching (a.k.a. “deferred” or “just in tim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to branch-off a new line of work until real work actually be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s for major releases &amp; for latest-and-greatest work (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aintenance lines very 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360" indent="-226080">
              <a:lnSpc>
                <a:spcPct val="8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m off as release-engineering work to allow LAG work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480" indent="-229320">
              <a:lnSpc>
                <a:spcPct val="85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_Type/LATEST is the most current baseline to base new work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>Industrie Brand Partners</dc:creator>
  <dc:description/>
  <dc:language>en-US</dc:language>
  <cp:lastModifiedBy>Brad Appleton</cp:lastModifiedBy>
  <dcterms:modified xsi:type="dcterms:W3CDTF">2003-09-10T21:34:32Z</dcterms:modified>
  <cp:revision>651</cp:revision>
  <dc:subject>IBM Presentation System</dc:subject>
  <dc:title>IBM blue-and-white template</dc:title>
</cp:coreProperties>
</file>